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3AB-8841-4A3E-B1FE-99D283BD85A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7333-6FD0-473B-BA96-FB289F9CA559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6D4-9630-4434-93CA-72F23BC61997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A006-588F-497C-8F46-9FF9CFE17181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61F-5E8F-4C9E-A384-2028E320E1C8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B8E0-D4E4-4BC2-B34E-2FD3B7331009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5AB-12D4-4B5B-8B34-206DF2372A9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9B76-3939-482C-92CD-76F70A83073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520-61A1-49A1-8E6C-78FFE00DA37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318-4B22-45C6-81A0-A92C5118AB82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EA20-F264-4499-9B67-CF9E090FD485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5BF-4222-4CED-B4A2-BA5797C7C2C0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EE48-02E8-4919-878B-6B0912183342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D662-449A-46EB-800C-C0C95018F70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81D-4855-47E2-A15A-0E175A4375A6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A46B-1539-4484-8918-1B2981846052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81E-3225-46D3-94EA-6A52F1B44813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F49C-1165-4702-A425-ED46DE5FDB5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8C4-E420-45CF-99DC-66043FA05AB1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231-BADC-44A5-A0AE-2FD706FF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D97-D941-4229-90A0-34981365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073-C342-4A1F-A663-85AF24C0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C08-D28B-4370-A622-BA2F9FFA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F59-8905-4E0E-A15D-C12160D5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F998-A9FD-4BF0-B3E3-E41AB2F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516B-6BB0-42FB-964A-FE95843D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F853-F417-40C3-8C51-7A107F5C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E687-03CA-4CBF-A640-D0839A4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0668-5EF4-4785-A8C7-6CA8C41C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0BC9-FCA0-4567-B776-FC97668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4F9-4508-4584-8CF2-4EF043F6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50F-9F67-4234-9BA8-68574B2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EE3F-3AA2-446F-B04E-3B0BE50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8098-DEBE-47D5-AE3C-09828388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D669-4673-41EF-9E84-B53E2AE6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D50-FED4-4F83-B6C8-ACAC6348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FBA-28F4-42D4-A3FF-419D9AF2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B67-3207-4190-B251-D2175CCF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6D2-4A6D-41CF-BE0D-33D62D1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926-E71B-4A2E-8280-E17CFFA9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11C-B3F0-4076-8985-8EBC605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B13-85A1-4E1B-AD91-B9A5335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C9C-0D04-430B-A676-06953CB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8DA9-E0E1-4F14-B54E-B698A99DB797}" type="datetime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HARUN DEMİRKA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778F-A75B-4C34-8D03-ECD28C5F3CD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6BA-3DD0-4C21-A6BF-60299100C1B4}" type="datetime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HARUN DEMİRKA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FDC-D016-4F08-872E-2898FB058DC6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ffff00"/>
                </a:solidFill>
                <a:latin typeface="Arial"/>
              </a:rPr>
              <a:t>YÖNETİMDE </a:t>
            </a:r>
            <a:br>
              <a:rPr sz="5400"/>
            </a:br>
            <a:r>
              <a:rPr b="1" lang="tr-TR" sz="5400" spc="-1" strike="noStrike">
                <a:solidFill>
                  <a:srgbClr val="ffff00"/>
                </a:solidFill>
                <a:latin typeface="Arial"/>
              </a:rPr>
              <a:t>ÇAĞDAŞ </a:t>
            </a:r>
            <a:br>
              <a:rPr sz="5400"/>
            </a:br>
            <a:r>
              <a:rPr b="1" lang="tr-TR" sz="5400" spc="-1" strike="noStrike">
                <a:solidFill>
                  <a:srgbClr val="ffff00"/>
                </a:solidFill>
                <a:latin typeface="Arial"/>
              </a:rPr>
              <a:t>YAKLAŞIML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240" y="3933720"/>
            <a:ext cx="6800760" cy="17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PROF.DR.EROL 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PROF.DR.CEMAL ZEHİ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YÖNETİM VE ORGANİZASYON ABD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2D30-6B0F-4C3A-8BA3-F8BE273B40AF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600" spc="-1" strike="noStrike">
                <a:solidFill>
                  <a:srgbClr val="ffff00"/>
                </a:solidFill>
                <a:latin typeface="Arial"/>
              </a:rPr>
              <a:t>Açık Sistemler Bakımından İşletme Örgütleri Özellikler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ler,zaman ve mekan içinde bir insan kaynak sistemid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 örgütlerinin çevreleri ile çeşitli etkileşimleri vardı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 örgütlerinde örgüt içi ve örgüt dışı uzmanlaşma ve çatışma ilişkileri vardı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rgüt içinde ve dış çevrede çeşitli düzeylerde güç geliştirme ve bunları kullanma özelliği vardı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ler geleceğin başarısı için geçmiş ile ilgili bilgi ve tecrübeleri kullanan geri besleme sistemid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8FE6-C522-46C2-98CF-918BCAF12540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600" spc="-1" strike="noStrike">
                <a:solidFill>
                  <a:srgbClr val="ffff00"/>
                </a:solidFill>
                <a:latin typeface="Arial"/>
              </a:rPr>
              <a:t>...Açık Sistemler Bakımından İşletme Örgütleri Özellikler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lerde dinamik kavramlardan statik kavram türetilmekted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ler,kendi içlerinde  alt sistemlere bölünmüşlerdir. Ancak işletmelerin de bağlı bulundukları bir veya birkaç üst sistem vardır. Diğer bazı sistemlerle de çapraz ilişkilerde bulunurlar. Bu bakımdan işletmeler,karmaşık sistemler grubuna girerl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er işletme, belirli sınırlar içinde bağımsız,kısmen denetlenebilen ve iyi birleştirilmemiş parçalardan oluşan gevşek bir sistemd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şletmeler,kısmi belirsizliğe sahip oldukları gibi kısmen optimize edilebilen sistemlerd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321F-EECE-48C2-A31F-36318A6D3B84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İŞLETMELERİN FONKSİYONEL ALT SİSTEMLER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ınır alanı (Destekleyici.)alt sistemler =&gt; a)Tedarik sistemi                                                                       b)Satış alt siste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Üretim veya teknik si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yumlayıcı alt si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Varlığı koruma alt siste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önetsel alt siste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0FF3-4E2B-49A3-B247-A269D3F257A1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İŞLETMELERİN FONKSİYONEL ALT SİSTEMLER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ınır alanı (Destekleyici) alt sistem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)Tedarik alt sistem    : Çevreden girdi temini ile ilgili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)Satış alt sistem        : Çıktıyı elden çıka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9A5-8632-46B5-AA81-5F5A6B494BD8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Arial"/>
              </a:rPr>
              <a:t>Üretim veya Teknik Alt Siste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istemin ana işlevi girdileri belirli teknoloji kullanara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çıktılara dönüştürmekt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a)Zincirleme teknoloji :  Belli bir üretimin başarılmasında sırayla bazı işlemleri yapmak zorunlu i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Örn:  Monta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)Aracı teknoloji         : Birbiri ile bağımlı olmak isteyen iki çevresel elemanı  bir araya getir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Örn:  P.T.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c) Yoğun teknolojı      : İstenen bir değişim işlevini yapmak için birbirinden farklı teknolojiler kullanmak ve bunları uyumlaştırma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Örn:  Hastane  ----</a:t>
            </a:r>
            <a:r>
              <a:rPr b="0" lang="tr-T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Teşhis—tedavi-ameliy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EDB-4BCB-43FF-A80E-027EDC4663BD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Uyumlayıcı Alt Si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şletme, sürekli değişen bir çevrede faaliyette bulu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şletme örgütü dışındaki bu çevrenin değişimlerini izlemek ve onun arzu ve isteklerindeki gelişmelere ayak uydurma ,kendini adapte etmek zorunda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6A1-194D-4886-801F-FC010C7B8C5C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Varlığı Koruyan Alt Si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ıktıların üretilmesinde kullanılan maddi ve beşeri üretim unsurlarının korunmasına yönelmiş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retim elemanı olan maddi araç veya donanımlarda beşeri araçların uygunluğu sağ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C5B1-1A74-4351-93C8-C4D6813B160D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önetsel Alt Si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iğer alt sistemlerin çalışması için ilke ve kurallar geliştir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aynakların iyi kullanımı için politikalar oluştu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lt sistemler arasında koordinasyonu sağlaya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lt sistemlerle çevre arasındaki ilişkileri yönlendir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lt sistemlerin çalışmalarını denetleyen faaliyetler bütünüdü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B31-D5EB-4BEC-9237-1982E8995CAB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SİSTEM YAKLAŞIMINA GÖRE;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Sistem yaklaşımı soyut kavramlara dayan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enellemeye dayanı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m işletmeler için uygulanabilecek genelleştirilmiş ilke ve kurallar vardı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şarı için her işletme bunları uygulamak zorundadı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Sistem yaklaşımının esas amacı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onuç alınamayan konulara tüm bilim dallarının etkilerini kapsayan genel formüller geliştir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lay anlaşılabilir ortak noktalar bulmaktı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8CB-408C-45CF-AE49-FF1424076C7D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Arial"/>
              </a:rPr>
              <a:t>YÖNETİMDE SİSTEM YAKLAŞIM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osyal birimlerde sistem yaklaşımı en geniş anlamı ile sosyal hayatın dinamizmi açısından ele alınabilir. Çünkü sosyal hayatın bütün yönleri birbiriyle ilişkili bir bütün teşkil e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oplum kendi içinde birbiriyle bağlı elemanların bir sistemi olarak incelendiğinde daha iyi anlaşılabileceklerd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er sosyal davranış , sosyal yapının ve sosyal kültürün bir ürünüdü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B97F-75DD-4062-AD59-26075A713CC7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SİSTEM GÖRÜS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60 yılı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</a:rPr>
              <a:t>Chester Barn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Arial"/>
              </a:rPr>
              <a:t>Church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Arial"/>
              </a:rPr>
              <a:t>G. Homans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=&gt; sistem yaklaşımını savunmuşt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Arial"/>
              </a:rPr>
              <a:t>P. Selznick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Bu görüşte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eşeri ilişkiler yaklaşımını, çevrelerinden etkilenen açık sistemler olarak değerlendiren bir bakış açısıdır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Rasyonellik, çevresel etkileşimlerle, amaçların maksimizasyonu şeklinde değil, optimizasyonu şeklinde gerçekleştirilebil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ciler, örgüt yapılarını ,yetki , işbölümü dağılımını oluştururken yapıyı çevre koşullarına adapte etmek gerektiğini ileri sür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elirsizlik koşulları vardır. Her şey kontrol altında olamaz. Her sistem eskir ve sonunda ölüme mahkum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4BF-B123-4E50-B053-9001A6A11C8F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AÇIK SİSTEM OLARAK ORGANİZASYONLAR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Açık sistemler,sürekli çevreleri ile ilişki halindedirler. Bir taraftan çalışma ve enerji dönüşümü kapasitesini korurken bir taraftan sabit bir durum ya da statik bir denge sağl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Malzeme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=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Enerji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  =&g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Bilgi 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   =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268360" y="3860640"/>
            <a:ext cx="1582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ahoma"/>
              </a:rPr>
              <a:t>Gird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140360" y="3500280"/>
            <a:ext cx="20872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Dönüşüm sistem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6659640" y="3789360"/>
            <a:ext cx="180000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88e4"/>
                </a:solidFill>
                <a:latin typeface="Tahoma"/>
              </a:rPr>
              <a:t>Çıktı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4511160" y="5234040"/>
            <a:ext cx="2167920" cy="4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Geri bes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3851280" y="4076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6227640" y="400536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7236000" y="4292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6659280" y="5445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3348000" y="551664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V="1">
            <a:off x="3348000" y="4508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2039-1C22-41EE-8152-A6C16136BBF7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SİSTEM YAKLAŞIM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şletmeyi açık ve sosyo-teknik bir sistem olarak görüp,bu sistemin bütün alt sistemlerini de dikkate alarak aralarındaki etkileşim üzerinde dur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CD63-7551-4199-B9D7-1B779439AE24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1258920" y="404640"/>
            <a:ext cx="3313080" cy="309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Hedef 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değer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lt siste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4788000" y="765000"/>
            <a:ext cx="3960720" cy="3284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tekni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lt si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6"/>
          <p:cNvSpPr/>
          <p:nvPr/>
        </p:nvSpPr>
        <p:spPr>
          <a:xfrm>
            <a:off x="1042920" y="3284640"/>
            <a:ext cx="3745080" cy="30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3366ff"/>
                </a:solidFill>
                <a:latin typeface="Tahoma"/>
              </a:rPr>
              <a:t>Psi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ff"/>
                </a:solidFill>
                <a:latin typeface="Tahoma"/>
              </a:rPr>
              <a:t>sosy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3366ff"/>
                </a:solidFill>
                <a:latin typeface="Tahoma"/>
              </a:rPr>
              <a:t>Alt sistem</a:t>
            </a:r>
            <a:r>
              <a:rPr b="0" lang="tr-TR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2997360"/>
            <a:ext cx="3456000" cy="33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68ae"/>
                </a:solidFill>
                <a:latin typeface="Tahoma"/>
              </a:rPr>
              <a:t>Yapıs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68ae"/>
                </a:solidFill>
                <a:latin typeface="Tahoma"/>
              </a:rPr>
              <a:t>a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68ae"/>
                </a:solidFill>
                <a:latin typeface="Tahoma"/>
              </a:rPr>
              <a:t>si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2916360" y="1989000"/>
            <a:ext cx="3166920" cy="273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8e4"/>
                </a:solidFill>
                <a:latin typeface="Tahoma"/>
              </a:rPr>
              <a:t>Y.A.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55640" y="2997360"/>
            <a:ext cx="23763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GİRDİ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767640" y="2997360"/>
            <a:ext cx="23763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ÇIKT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692360" y="189000"/>
            <a:ext cx="6769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RGANİZASYON SİSTEM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BAEC-E304-40B0-9269-10BF8650CD97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AÇIK SİSTEMİN ÖZELLİKLER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Sosyal örgütler yapay sistemlerdir ve doğal sistemlerde ki mükemmellikten yoksundurl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Sosyal sistemlerin sınırları vardır. Organizasyonun faaliyetleri ve görevleri bu sınırları sapt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Sosyal sistemler arasında hiyerarşi vardı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Arial"/>
              </a:rPr>
              <a:t>Açık sistemlerde onu dengesizlikten ve yıkımdan koruyan olumsuz entropi vardı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Tüm sistemler,gittikçe düzensizliğe ve bozulmaya maruzdur. Bu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entropi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 gücü denir.Kapalı sistemlerde entropideki değişim olumlu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önde olduğu için bir gün yıpranacaktır. Ancak açık sistemler,dah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mükemmel organizasyon,kaynakların yenileştirilmesi ile entropid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uzaklaşabilir.Çünkü entropiye gidişi durdurmak için kullanıl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madde,bilgi enerji gibi kaynaklar çevreden sağlanı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0D3-BB05-4646-9B51-D13B7D5FA5A8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...AÇIK SİSTEMİN ÖZELLİKLER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Açık sistemlerde dinamizm ve sürekli dengeyi koruma hali vardı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Bir örgüt, çevresindeki değişikliklere uyum sağlamaya ve kendi durumunu korumaya sürekli olarak sahipti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Sosyal örgüt,dengesini muhafaza etmesini ve girdi akımındaki ve çevre gereksinimlerindeki değişikliklerin bir kısmını gidermesine yardımcı olacak kaynakları biriktirme yoluna gidebilir,faaliyetlerini çeşitlendiri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Açık sistemlerde geri besleme mekanizması vardı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Geri besleme,bir işletmenin kendinden veya algıladığı çevresinden aldığı bilgilerle kendisini ayarlaması ve düzenlemesi imkanını veri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Açık sistemlerde koruma ve uyum mekanizması vardı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Açık sistemler,kendi içlerinde büyüyerek gelişirl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ffffff"/>
                </a:solidFill>
                <a:latin typeface="Arial"/>
              </a:rPr>
              <a:t>Açık sistemlerde bir eş sonuçluluk vardı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555-4F54-4444-BB20-1E32848B9A17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"/>
              </a:rPr>
              <a:t>AÇIK SİSTEM YAKLAŞIMINDA    YÖNETİCİNİN ÇÖZECEĞİ SORUNLA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Uygun bir faaliyet ve teknoloji seçimi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Teknolojik düzeyi belirsizlikten koruyucu tedbirle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Alm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Yakın görev çevresiyle sıkı ilişkisi olan bir yöneti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biçimi oluşturm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Teknolojiye ve görev çevresine uygun bi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organizasyon yapısı oluşturm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Rutin faaliyetler ile olağanüstü yenilikçi rol v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görevleri belirlem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Bireyleri bu iki rol çerçevesinde motive etmek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Devamlı çevresel araştırma ve onun ihtiyaçlarına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göre   ürün ve pazar çeşitlendirm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1:19Z</dcterms:created>
  <dc:creator>Harun</dc:creator>
  <dc:description/>
  <dc:language>en-US</dc:language>
  <cp:lastModifiedBy>Supervisor</cp:lastModifiedBy>
  <dcterms:modified xsi:type="dcterms:W3CDTF">2022-04-04T11:02:09Z</dcterms:modified>
  <cp:revision>100</cp:revision>
  <dc:subject/>
  <dc:title>Slayt Başlığı Yok</dc:title>
</cp:coreProperties>
</file>