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F4B-BC1D-451D-9252-26B4FEBF69B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987E-E260-4A52-8753-9ABDDF18A45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E7A5-8214-4489-AF0D-0674829EE53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0FCE-E92E-4F0E-95B1-48CE3EEAA1B9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165-51EA-406F-AF83-7A3C1A3ABD8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7396-9C75-486C-9E17-B1C75D6354B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A390-471A-4AFD-951F-1F0D65F5243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D1DA-8FB1-43B5-B0FB-E862BA6C22ED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4C0C-F804-434F-9FB8-FF140FAE0A8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373A-D86F-49E5-A93E-EA82A2E5085D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08C-4662-4F68-AB5F-7C8B90BACD0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C9B0-A49F-45F9-BF5A-AC328F90A4B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2BE2-1A10-4D53-BDC2-4CC7570D57E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D90C-C4BC-4B44-A73E-EACBAA76BC5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52DE-A2A3-44E4-97EF-295ED565781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D4E-E405-4DA8-AE6E-C54D3EBD4E9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281-DEBF-4EFB-997C-DAF946C0E7B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889-3659-4EC3-8171-344F93D08DC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DEB9-B660-4CC4-8001-BF58858DCF5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B219-688E-4D9F-A60B-8597DE83E6A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67B1-C316-4EFE-9717-420D165280D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1E8-F70E-4850-82B8-F08D92ACC0D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1453-11EB-49E1-8482-9A447CDBB8A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BDF4-F022-4458-87E3-E1EFE11126F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F38-CB08-4208-A274-46088FE0685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419-2A17-4207-896B-3DDE1BAC8B13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CDE-29ED-49B6-8927-9CD0D2DD17B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395-AE1D-455B-AFC1-C6F8B8AFA5F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969-2182-4A08-9D3A-4F8F3D5A010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329B-9F89-4E64-AC33-D2C8F311D37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8F00-B1F4-4435-AE7F-8E1D464C1EF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1FA-7FBD-4862-8A59-6FD512C7808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50F-AC83-4EB9-B226-CB480C645679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A2F-1133-453E-9525-B52E22F78DF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DE6-3518-42F8-9F97-D0284B6C892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8D5A-9823-4775-BCEC-E147ED7D6CC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F81-397A-44B4-B6C7-5A6B0036D8A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9C6C-9B2E-4B3A-B4CB-FCC71999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0448-CD1F-47E3-AF0C-88754EA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8146-0087-40BC-991F-452C4C84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2DAB-23A9-4E9F-9996-8E9B8667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15C2-E8CA-4444-AE5E-4B277E0E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9031-E91E-4910-AC93-AAAC6CF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534D-0395-45DC-AF87-59ED8EE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9FF-36FF-4690-9359-DE1A34A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D1FF-9B57-4899-8400-2D1FE723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D9A-153E-4430-82C6-6000E12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2056-DD5C-491E-BD9A-1F44AE0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C159-96C1-4060-8BE1-7570D77B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D05-415E-420E-B85A-594BFB9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F8C-3592-4C80-B199-559D56B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8EB0-44F3-423E-AA8E-953A45EA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816-E003-40C4-9FA8-1DA67307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717-203E-43CC-B58A-AC5F20B7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C907-EB25-4D79-9431-56926D1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404A-F20E-4135-8338-86D37B09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54B4-B2D3-4307-93B8-54355C30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5C77-4131-4D7E-9E06-386976DE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1353-67D7-48F0-9128-A708CBA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C779-E088-4D14-9A67-A22D71D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4ACC-BA31-41DA-BBF4-9C47536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HARUN DEMİRKA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A77-A0DB-4858-B775-81B9E42F191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39F-70DA-4064-A1BD-9473C7A78C80}" type="datetime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D688-2406-4AA8-86CD-7F4C1ABAAB6C}" type="datetime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HARUN DEMİRKA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0DDA-DE7C-47FE-A10E-807A1DDBDA0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YÖNETİMDE DURUMSALLIK YAKLAŞIM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Prof.Dr.CEMAL ZEHİ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YÖNETİM VE ORGANİZASYON AB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79C-6B73-4788-BBB9-D8F0C71604E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ganik 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e y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mini olu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an y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ciler, mutlaka her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i en iyi bilen ve b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kararla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maya tam yetkili k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er olarak d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ş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ez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50920" y="4149720"/>
            <a:ext cx="96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58920" y="422100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kli olarak yeni sorunlar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 dogdugu; istikrar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     mevcut olmad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bir sistemde bu t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ö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g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 yap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(organik) en olumlu sonuc veren yap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220E-6E4D-4C9B-B55D-014A89406174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awrence ve Lorsch’un Ara</a:t>
            </a:r>
            <a:r>
              <a:rPr b="0" lang="tr-TR" sz="4000" spc="-1" strike="noStrike">
                <a:solidFill>
                  <a:srgbClr val="3333ff"/>
                </a:solidFill>
                <a:latin typeface="Arial"/>
              </a:rPr>
              <a:t>ş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0" lang="tr-TR" sz="4000" spc="-1" strike="noStrike">
                <a:solidFill>
                  <a:srgbClr val="3333ff"/>
                </a:solidFill>
                <a:latin typeface="Arial"/>
              </a:rPr>
              <a:t>ı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rmalar</a:t>
            </a:r>
            <a:r>
              <a:rPr b="0" lang="tr-TR" sz="4000" spc="-1" strike="noStrike">
                <a:solidFill>
                  <a:srgbClr val="3333ff"/>
                </a:solidFill>
                <a:latin typeface="Arial"/>
              </a:rPr>
              <a:t>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mede ar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a yaparlar. Bu ar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a bulgu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erin yap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eri pazardaki   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lebin niteli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ğ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knolojik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ç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redeki de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ğ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im h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d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 maddelere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 iki kavram ortaya atarl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am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4CE3-F967-4132-B2B4-EE6BD5F1295D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arkl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nksiyonel departmanlardaki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cilerin bilgisel ve duygusal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sted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me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li departman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llikleri ve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sel kriterleri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sel d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likl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rkl</a:t>
            </a:r>
            <a:r>
              <a:rPr b="0" i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</a:t>
            </a:r>
            <a:r>
              <a:rPr b="0" i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ş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ebin nite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e teknolojik d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er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a neden olan 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ler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3F0-C9ED-449B-A8B5-C0C6BDD212EB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aml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lerin faaliyetlerini s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ken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eye uyum sa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ak amac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la farkl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sel departmanlar aras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an ge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le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mek zorunda oldukla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r 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l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kl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e kadar artarsa tamla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o kadar azal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62C-A68D-4B5E-A680-78E89608B1FE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3600" spc="-1" strike="noStrike">
                <a:solidFill>
                  <a:srgbClr val="ffff66"/>
                </a:solidFill>
                <a:latin typeface="Arial"/>
              </a:rPr>
              <a:t>Ö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g</a:t>
            </a:r>
            <a:r>
              <a:rPr b="0" lang="tr-TR" sz="3600" spc="-1" strike="noStrike">
                <a:solidFill>
                  <a:srgbClr val="ffff66"/>
                </a:solidFill>
                <a:latin typeface="Arial"/>
              </a:rPr>
              <a:t>ü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3600" spc="-1" strike="noStrike">
                <a:solidFill>
                  <a:srgbClr val="ffff66"/>
                </a:solidFill>
                <a:latin typeface="Arial"/>
              </a:rPr>
              <a:t>ü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n Ana B</a:t>
            </a:r>
            <a:r>
              <a:rPr b="0" lang="tr-TR" sz="3600" spc="-1" strike="noStrike">
                <a:solidFill>
                  <a:srgbClr val="ffff66"/>
                </a:solidFill>
                <a:latin typeface="Arial"/>
              </a:rPr>
              <a:t>ö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0" lang="tr-TR" sz="3600" spc="-1" strike="noStrike">
                <a:solidFill>
                  <a:srgbClr val="ffff66"/>
                </a:solidFill>
                <a:latin typeface="Arial"/>
              </a:rPr>
              <a:t>ü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00000" y="1125360"/>
          <a:ext cx="7561440" cy="570240"/>
        </p:xfrm>
        <a:graphic>
          <a:graphicData uri="http://schemas.openxmlformats.org/drawingml/2006/table">
            <a:tbl>
              <a:tblPr/>
              <a:tblGrid>
                <a:gridCol w="2449800"/>
                <a:gridCol w="2808000"/>
                <a:gridCol w="230364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m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/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zar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58920" y="2060640"/>
          <a:ext cx="8785080" cy="365040"/>
        </p:xfrm>
        <a:graphic>
          <a:graphicData uri="http://schemas.openxmlformats.org/drawingml/2006/table">
            <a:tbl>
              <a:tblPr/>
              <a:tblGrid>
                <a:gridCol w="3097080"/>
                <a:gridCol w="2808360"/>
                <a:gridCol w="287964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no-ekonomik yak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imsel yak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zara yak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920" y="2781360"/>
          <a:ext cx="8785080" cy="3650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el yak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renin belirlilik derec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Line 118"/>
          <p:cNvSpPr/>
          <p:nvPr/>
        </p:nvSpPr>
        <p:spPr>
          <a:xfrm>
            <a:off x="190800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9"/>
          <p:cNvSpPr/>
          <p:nvPr/>
        </p:nvSpPr>
        <p:spPr>
          <a:xfrm>
            <a:off x="464328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0"/>
          <p:cNvSpPr/>
          <p:nvPr/>
        </p:nvSpPr>
        <p:spPr>
          <a:xfrm>
            <a:off x="730872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1"/>
          <p:cNvSpPr/>
          <p:nvPr/>
        </p:nvSpPr>
        <p:spPr>
          <a:xfrm>
            <a:off x="250920" y="314172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5"/>
          <p:cNvSpPr/>
          <p:nvPr/>
        </p:nvSpPr>
        <p:spPr>
          <a:xfrm>
            <a:off x="3564000" y="306864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rg</a:t>
            </a: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t b</a:t>
            </a: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leri belirsizliklere duyarl</a:t>
            </a: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1" i="1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8"/>
          <p:cNvSpPr/>
          <p:nvPr/>
        </p:nvSpPr>
        <p:spPr>
          <a:xfrm>
            <a:off x="234000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9"/>
          <p:cNvSpPr/>
          <p:nvPr/>
        </p:nvSpPr>
        <p:spPr>
          <a:xfrm>
            <a:off x="565164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AY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0"/>
          <p:cNvSpPr/>
          <p:nvPr/>
        </p:nvSpPr>
        <p:spPr>
          <a:xfrm>
            <a:off x="0" y="3068640"/>
            <a:ext cx="241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ler aras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da yap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ama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,planlama zaman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ve ki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eraras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li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ilere g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mli farkl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ar olacakt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1"/>
          <p:cNvSpPr/>
          <p:nvPr/>
        </p:nvSpPr>
        <p:spPr>
          <a:xfrm>
            <a:off x="0" y="3141720"/>
            <a:ext cx="21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2"/>
          <p:cNvSpPr/>
          <p:nvPr/>
        </p:nvSpPr>
        <p:spPr>
          <a:xfrm>
            <a:off x="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3"/>
          <p:cNvSpPr/>
          <p:nvPr/>
        </p:nvSpPr>
        <p:spPr>
          <a:xfrm>
            <a:off x="0" y="4508640"/>
            <a:ext cx="21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4"/>
          <p:cNvSpPr/>
          <p:nvPr/>
        </p:nvSpPr>
        <p:spPr>
          <a:xfrm>
            <a:off x="2195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5"/>
          <p:cNvSpPr/>
          <p:nvPr/>
        </p:nvSpPr>
        <p:spPr>
          <a:xfrm flipH="1">
            <a:off x="2123640" y="429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6"/>
          <p:cNvSpPr/>
          <p:nvPr/>
        </p:nvSpPr>
        <p:spPr>
          <a:xfrm>
            <a:off x="0" y="456876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yera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k b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le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 veya tamla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 yeterli degildir.B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le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yi saglayan irtibat agla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komi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imleri,gayriresmi grupla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 ve tamla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 yolla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merkezka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ime kayma egilimleri,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sel geli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 planla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 ve programla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 ag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l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verme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m kazanmaktad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8"/>
          <p:cNvSpPr/>
          <p:nvPr/>
        </p:nvSpPr>
        <p:spPr>
          <a:xfrm>
            <a:off x="3419640" y="3141720"/>
            <a:ext cx="20890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0"/>
          <p:cNvSpPr/>
          <p:nvPr/>
        </p:nvSpPr>
        <p:spPr>
          <a:xfrm>
            <a:off x="550872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2"/>
          <p:cNvSpPr/>
          <p:nvPr/>
        </p:nvSpPr>
        <p:spPr>
          <a:xfrm>
            <a:off x="6588000" y="3213000"/>
            <a:ext cx="2556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ler aras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da yap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ama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,planlama zaman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ve ki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eraras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li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iler bak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dan az farkl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ar olacakt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4"/>
          <p:cNvSpPr/>
          <p:nvPr/>
        </p:nvSpPr>
        <p:spPr>
          <a:xfrm>
            <a:off x="6516720" y="3213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6"/>
          <p:cNvSpPr/>
          <p:nvPr/>
        </p:nvSpPr>
        <p:spPr>
          <a:xfrm>
            <a:off x="651672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7"/>
          <p:cNvSpPr/>
          <p:nvPr/>
        </p:nvSpPr>
        <p:spPr>
          <a:xfrm>
            <a:off x="0" y="4581360"/>
            <a:ext cx="4284720" cy="2276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8"/>
          <p:cNvSpPr/>
          <p:nvPr/>
        </p:nvSpPr>
        <p:spPr>
          <a:xfrm>
            <a:off x="4932360" y="4653000"/>
            <a:ext cx="4427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 nedenle tamla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yada b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le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yi saglayacak y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temlere gerek yoktur. Klasik hiyerar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k ili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iler ve 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g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sel y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temler ge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rli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9"/>
          <p:cNvSpPr/>
          <p:nvPr/>
        </p:nvSpPr>
        <p:spPr>
          <a:xfrm rot="5613000">
            <a:off x="2413080" y="3931200"/>
            <a:ext cx="432000" cy="722520"/>
          </a:xfrm>
          <a:custGeom>
            <a:avLst/>
            <a:gdLst>
              <a:gd name="textAreaLeft" fmla="*/ 248400 w 432000"/>
              <a:gd name="textAreaRight" fmla="*/ 364680 w 432000"/>
              <a:gd name="textAreaTop" fmla="*/ 97200 h 722520"/>
              <a:gd name="textAreaBottom" fmla="*/ 309240 h 722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1"/>
          <p:cNvSpPr/>
          <p:nvPr/>
        </p:nvSpPr>
        <p:spPr>
          <a:xfrm>
            <a:off x="4896000" y="4581360"/>
            <a:ext cx="4248000" cy="2276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5"/>
          <p:cNvSpPr/>
          <p:nvPr/>
        </p:nvSpPr>
        <p:spPr>
          <a:xfrm flipH="1" rot="16053600">
            <a:off x="5940000" y="3931920"/>
            <a:ext cx="503280" cy="649440"/>
          </a:xfrm>
          <a:custGeom>
            <a:avLst/>
            <a:gdLst>
              <a:gd name="textAreaLeft" fmla="*/ 289440 w 503280"/>
              <a:gd name="textAreaRight" fmla="*/ 424800 w 503280"/>
              <a:gd name="textAreaTop" fmla="*/ 87480 h 649440"/>
              <a:gd name="textAreaBottom" fmla="*/ 2779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975-1F03-46EA-BF9C-B23FDA80E6DF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Leawitt’in Ara</a:t>
            </a:r>
            <a:r>
              <a:rPr b="0" lang="tr-TR" sz="4400" spc="-1" strike="noStrike" u="sng">
                <a:solidFill>
                  <a:srgbClr val="ffff66"/>
                </a:solidFill>
                <a:uFillTx/>
                <a:latin typeface="Arial"/>
              </a:rPr>
              <a:t>ş</a:t>
            </a:r>
            <a:r>
              <a:rPr b="0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t</a:t>
            </a:r>
            <a:r>
              <a:rPr b="0" lang="tr-TR" sz="4400" spc="-1" strike="noStrike" u="sng">
                <a:solidFill>
                  <a:srgbClr val="ffff66"/>
                </a:solidFill>
                <a:uFillTx/>
                <a:latin typeface="Arial"/>
              </a:rPr>
              <a:t>ı</a:t>
            </a:r>
            <a:r>
              <a:rPr b="0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rmalar</a:t>
            </a:r>
            <a:r>
              <a:rPr b="0" lang="tr-TR" sz="4400" spc="-1" strike="noStrike" u="sng">
                <a:solidFill>
                  <a:srgbClr val="ffff66"/>
                </a:solidFill>
                <a:uFillTx/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witt bir sosyal psikolog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eylerara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erdeki grup b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inamik ve b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 sistem ola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erdeki b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le i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si oldugunu iddia et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k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 ol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ç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grup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erine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 5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nkte bilye olan kutular ver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 bilyelerden birisi 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ektir ve bunu bulma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t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A73F-F140-4EFF-9FB2-6FBBB296D11B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awitt’in Ar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malar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42920" y="184464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116000" y="184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179280" y="2565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755640" y="256536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1403280" y="2565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1979640" y="256536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50920" y="256536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826920" y="256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47636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050920" y="256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 flipH="1">
            <a:off x="468360" y="2060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 flipH="1">
            <a:off x="97128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40328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147636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4067280" y="170028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4643280" y="2781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6"/>
          <p:cNvSpPr/>
          <p:nvPr/>
        </p:nvSpPr>
        <p:spPr>
          <a:xfrm>
            <a:off x="3348000" y="2781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4643280" y="213372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348000" y="213372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4140360" y="1700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341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71636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341964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471636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 flipH="1">
            <a:off x="3708000" y="1916280"/>
            <a:ext cx="35892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4500720" y="191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356400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>
            <a:off x="485928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8"/>
          <p:cNvSpPr/>
          <p:nvPr/>
        </p:nvSpPr>
        <p:spPr>
          <a:xfrm>
            <a:off x="7308720" y="270828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9"/>
          <p:cNvSpPr/>
          <p:nvPr/>
        </p:nvSpPr>
        <p:spPr>
          <a:xfrm>
            <a:off x="6084720" y="270828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0"/>
          <p:cNvSpPr/>
          <p:nvPr/>
        </p:nvSpPr>
        <p:spPr>
          <a:xfrm>
            <a:off x="7308720" y="198900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1"/>
          <p:cNvSpPr/>
          <p:nvPr/>
        </p:nvSpPr>
        <p:spPr>
          <a:xfrm>
            <a:off x="6012000" y="2060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2"/>
          <p:cNvSpPr/>
          <p:nvPr/>
        </p:nvSpPr>
        <p:spPr>
          <a:xfrm>
            <a:off x="6659640" y="1628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6732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6084720" y="2060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"/>
          <p:cNvSpPr/>
          <p:nvPr/>
        </p:nvSpPr>
        <p:spPr>
          <a:xfrm>
            <a:off x="738036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6"/>
          <p:cNvSpPr/>
          <p:nvPr/>
        </p:nvSpPr>
        <p:spPr>
          <a:xfrm>
            <a:off x="6156360" y="2708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7380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>
            <a:off x="6227280" y="1773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615636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0"/>
          <p:cNvSpPr/>
          <p:nvPr/>
        </p:nvSpPr>
        <p:spPr>
          <a:xfrm>
            <a:off x="6516720" y="29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1"/>
          <p:cNvSpPr/>
          <p:nvPr/>
        </p:nvSpPr>
        <p:spPr>
          <a:xfrm>
            <a:off x="7596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2"/>
          <p:cNvSpPr/>
          <p:nvPr/>
        </p:nvSpPr>
        <p:spPr>
          <a:xfrm>
            <a:off x="7093080" y="1773360"/>
            <a:ext cx="3585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6443640" y="220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4"/>
          <p:cNvSpPr/>
          <p:nvPr/>
        </p:nvSpPr>
        <p:spPr>
          <a:xfrm flipH="1">
            <a:off x="6443280" y="227664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5"/>
          <p:cNvSpPr/>
          <p:nvPr/>
        </p:nvSpPr>
        <p:spPr>
          <a:xfrm>
            <a:off x="6372360" y="2349360"/>
            <a:ext cx="936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6372000" y="1989000"/>
            <a:ext cx="43164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6948360" y="1989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8"/>
          <p:cNvSpPr/>
          <p:nvPr/>
        </p:nvSpPr>
        <p:spPr>
          <a:xfrm>
            <a:off x="539640" y="3284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9"/>
          <p:cNvSpPr/>
          <p:nvPr/>
        </p:nvSpPr>
        <p:spPr>
          <a:xfrm>
            <a:off x="3708360" y="32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0"/>
          <p:cNvSpPr/>
          <p:nvPr/>
        </p:nvSpPr>
        <p:spPr>
          <a:xfrm>
            <a:off x="6372360" y="3213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1"/>
          <p:cNvSpPr/>
          <p:nvPr/>
        </p:nvSpPr>
        <p:spPr>
          <a:xfrm>
            <a:off x="250920" y="3716280"/>
            <a:ext cx="871380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inci Grup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 liderdir, t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haberl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 ona dogru yap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. 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k renkl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y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man kaybedilmeden 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le (veriml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kilde) bulun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tr-TR" sz="2400" spc="-1" strike="noStrike" u="sng">
                <a:solidFill>
                  <a:srgbClr val="000000"/>
                </a:solidFill>
                <a:uFillTx/>
                <a:latin typeface="Arial"/>
              </a:rPr>
              <a:t>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nci Grup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he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 yal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ya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daki ik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 ile konu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diginden 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nkli bilyeyi bulmakta epey zaman kayb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DA0-DA36-4E9C-A98E-B484CD75B2C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awitt’in Ar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malar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"/>
          <p:cNvSpPr/>
          <p:nvPr/>
        </p:nvSpPr>
        <p:spPr>
          <a:xfrm>
            <a:off x="1042920" y="184464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116000" y="184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179280" y="2565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755640" y="256536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1403280" y="2565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1979640" y="256536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50920" y="256536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826920" y="256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147636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050920" y="256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468360" y="2060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97128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140328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147636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4067280" y="170028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9"/>
          <p:cNvSpPr/>
          <p:nvPr/>
        </p:nvSpPr>
        <p:spPr>
          <a:xfrm>
            <a:off x="4643280" y="2781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0"/>
          <p:cNvSpPr/>
          <p:nvPr/>
        </p:nvSpPr>
        <p:spPr>
          <a:xfrm>
            <a:off x="3348000" y="278136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1"/>
          <p:cNvSpPr/>
          <p:nvPr/>
        </p:nvSpPr>
        <p:spPr>
          <a:xfrm>
            <a:off x="4643280" y="213372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3348000" y="213372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140360" y="1700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341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71636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341964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471636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 flipH="1">
            <a:off x="3708000" y="1916280"/>
            <a:ext cx="35892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4500720" y="191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0"/>
          <p:cNvSpPr/>
          <p:nvPr/>
        </p:nvSpPr>
        <p:spPr>
          <a:xfrm>
            <a:off x="356400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485928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2"/>
          <p:cNvSpPr/>
          <p:nvPr/>
        </p:nvSpPr>
        <p:spPr>
          <a:xfrm>
            <a:off x="7308720" y="270828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3"/>
          <p:cNvSpPr/>
          <p:nvPr/>
        </p:nvSpPr>
        <p:spPr>
          <a:xfrm>
            <a:off x="6084720" y="270828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4"/>
          <p:cNvSpPr/>
          <p:nvPr/>
        </p:nvSpPr>
        <p:spPr>
          <a:xfrm>
            <a:off x="7308720" y="1989000"/>
            <a:ext cx="43200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5"/>
          <p:cNvSpPr/>
          <p:nvPr/>
        </p:nvSpPr>
        <p:spPr>
          <a:xfrm>
            <a:off x="6012000" y="2060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6"/>
          <p:cNvSpPr/>
          <p:nvPr/>
        </p:nvSpPr>
        <p:spPr>
          <a:xfrm>
            <a:off x="6659640" y="1628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6732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6084720" y="2060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738036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6156360" y="2708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1"/>
          <p:cNvSpPr/>
          <p:nvPr/>
        </p:nvSpPr>
        <p:spPr>
          <a:xfrm>
            <a:off x="7380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 flipH="1">
            <a:off x="6227280" y="1773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3"/>
          <p:cNvSpPr/>
          <p:nvPr/>
        </p:nvSpPr>
        <p:spPr>
          <a:xfrm>
            <a:off x="615636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6516720" y="29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5"/>
          <p:cNvSpPr/>
          <p:nvPr/>
        </p:nvSpPr>
        <p:spPr>
          <a:xfrm>
            <a:off x="7596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7093080" y="1773360"/>
            <a:ext cx="3585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7"/>
          <p:cNvSpPr/>
          <p:nvPr/>
        </p:nvSpPr>
        <p:spPr>
          <a:xfrm>
            <a:off x="6443640" y="220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8"/>
          <p:cNvSpPr/>
          <p:nvPr/>
        </p:nvSpPr>
        <p:spPr>
          <a:xfrm flipH="1">
            <a:off x="6443280" y="227664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9"/>
          <p:cNvSpPr/>
          <p:nvPr/>
        </p:nvSpPr>
        <p:spPr>
          <a:xfrm>
            <a:off x="6372360" y="2349360"/>
            <a:ext cx="93636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0"/>
          <p:cNvSpPr/>
          <p:nvPr/>
        </p:nvSpPr>
        <p:spPr>
          <a:xfrm flipH="1">
            <a:off x="6372000" y="1989000"/>
            <a:ext cx="43164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1"/>
          <p:cNvSpPr/>
          <p:nvPr/>
        </p:nvSpPr>
        <p:spPr>
          <a:xfrm>
            <a:off x="6948360" y="1989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539640" y="3284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3"/>
          <p:cNvSpPr/>
          <p:nvPr/>
        </p:nvSpPr>
        <p:spPr>
          <a:xfrm>
            <a:off x="3708360" y="32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6372360" y="3213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.G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5"/>
          <p:cNvSpPr/>
          <p:nvPr/>
        </p:nvSpPr>
        <p:spPr>
          <a:xfrm>
            <a:off x="468360" y="3789360"/>
            <a:ext cx="86756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tr-TR" sz="2300" spc="-1" strike="noStrike" u="sng">
                <a:solidFill>
                  <a:srgbClr val="000000"/>
                </a:solidFill>
                <a:uFillTx/>
                <a:latin typeface="Arial"/>
              </a:rPr>
              <a:t>Üçü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c</a:t>
            </a:r>
            <a:r>
              <a:rPr b="1" lang="tr-TR" sz="2300" spc="-1" strike="noStrike" u="sng">
                <a:solidFill>
                  <a:srgbClr val="000000"/>
                </a:solidFill>
                <a:uFillTx/>
                <a:latin typeface="Arial"/>
              </a:rPr>
              <a:t>ü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 Grup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se, herkes her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e ile konu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bildigi i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zaman kayb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diger iki gruptakinden daha fazla olmu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u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utin i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rin oldugu durumlarda I.Grup y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tim ve otorite yap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daha ge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rli v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m faaliyetleri ise daha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mlidir. Degi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t ve durumlara uyma s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z konusu oldugunda ise 3.sistem gereklidir.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ü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elirsizlikleri tesbit ve gidermek i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bilgi toplamaya ihtiya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rtmaktad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FC30-E2EB-49C0-AC1D-B91A38E2EB00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awitt’in Ar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malar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r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li ama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a hizmet etme ya da mamul 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me faaliyetid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ap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kli olarak bir kal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i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e faaliyet g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ermesidir.(malzeme ve kaynakla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dag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mas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rin yetkilerin belirlenmes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a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knoloji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aaliyeti s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me arac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l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İ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sanlar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aaliyeti yapan y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n be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i unsurlard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reden gelen belirsizlikler art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ca yap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, i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rin hacminde ve dag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da degi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kler ortaya 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ar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51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İ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70036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ap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932360" y="2133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sa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63528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knoloj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059280" y="162864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4500720" y="1557360"/>
            <a:ext cx="8632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305928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"/>
          <p:cNvSpPr/>
          <p:nvPr/>
        </p:nvSpPr>
        <p:spPr>
          <a:xfrm flipH="1">
            <a:off x="4859280" y="2421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42116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 flipH="1">
            <a:off x="3276360" y="2349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AD70-1A55-4AF5-B4BF-F652E88B3CF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awitt’in Ar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malar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witt dah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me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ki 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 deg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inde durm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ni bir teknolojinin gelmesi yap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kiler, yeni teknoloji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rin niteligi ve mikt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a deg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lik yap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nolojinin insanlar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inde de etkisi var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lerin sa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ilgi, tec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ve uzman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alan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73C-1F2C-4EC1-9828-B77DBF023B2D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DURUMSALLIK YAKLAŞ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stem yaklaşımı, 1970 yılından itibaren yapılan araştırmalarda yerini durumsallık yaklaşımına bırakmışt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2C2-3D35-437A-B6A1-5379BA124CA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awitt’in Ar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malar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witt’in yap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syonda n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l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h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m mi yoks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deki deg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r 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syon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 hangi fak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ler digerleri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inde dah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etki yapmakta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5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06E-414A-458F-B34A-AF5B3F7FA7D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ston Grubu Yakla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şı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g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s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 Degi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ş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l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yap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yap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Grup davra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g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l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gi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ş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yap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 davra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ey davra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k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gini etk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3564000" y="2276640"/>
            <a:ext cx="1150920" cy="21564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3276720" y="2852640"/>
            <a:ext cx="215640" cy="576360"/>
          </a:xfrm>
          <a:custGeom>
            <a:avLst/>
            <a:gdLst>
              <a:gd name="textAreaLeft" fmla="*/ 0 w 215640"/>
              <a:gd name="textAreaRight" fmla="*/ 151200 w 215640"/>
              <a:gd name="textAreaTop" fmla="*/ 39240 h 576360"/>
              <a:gd name="textAreaBottom" fmla="*/ 537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72"/>
                  <a:pt x="21600" y="2943"/>
                </a:cubicBezTo>
                <a:lnTo>
                  <a:pt x="21600" y="18657"/>
                </a:lnTo>
                <a:cubicBezTo>
                  <a:pt x="21600" y="20129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635280" y="3357720"/>
            <a:ext cx="1008000" cy="215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3635280" y="4076640"/>
            <a:ext cx="73080" cy="865080"/>
          </a:xfrm>
          <a:custGeom>
            <a:avLst/>
            <a:gdLst>
              <a:gd name="textAreaLeft" fmla="*/ 0 w 73080"/>
              <a:gd name="textAreaRight" fmla="*/ 51480 w 7308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3780000" y="4292640"/>
            <a:ext cx="936360" cy="216000"/>
          </a:xfrm>
          <a:custGeom>
            <a:avLst/>
            <a:gdLst>
              <a:gd name="textAreaLeft" fmla="*/ 146160 w 936360"/>
              <a:gd name="textAreaRight" fmla="*/ 819360 w 936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BDAC-04D7-490A-845E-76CF222F38D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66"/>
                </a:solidFill>
                <a:latin typeface="Arial"/>
              </a:rPr>
              <a:t>DURUMSALLIK YAKLAŞ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etim ve Organizasyonda, her yerde geçerli evrensel ilkeler yoktur. Her yönetim ve organizasyon olayın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şletmenin kendi koşullar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uruluşun evrensel koşulları ve unsurlarla ilişki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ullandığı teknolojinin özellikle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ullandığı personelin sosyo-kültürel özellik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 birlikte ele almak ve sorunlara çözüm aramak gerek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B88-D2D3-40CB-914F-D4D18655581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VAK’A </a:t>
            </a:r>
            <a:r>
              <a:rPr b="1" lang="tr-TR" sz="4000" spc="-1" strike="noStrike">
                <a:solidFill>
                  <a:srgbClr val="00007d"/>
                </a:solidFill>
                <a:latin typeface="Arial"/>
              </a:rPr>
              <a:t>GÖRÜŞ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 endüstrinin ve bu endüstride faaliyette bulunan her işletmenin kendilerine özgü koşulları vardır. Yönetim sistemini bu koşullara göre oluşturmak gerek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CACD-1DA7-45AC-9B40-7FD5D739C77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66"/>
                </a:solidFill>
                <a:latin typeface="Arial"/>
              </a:rPr>
              <a:t>GENELCİLİK GÖRÜŞ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üm işletmeler için uygulanabilecek genelleştirilmiş ilke ve kurallar vardır. Başarı için her işletme bunları uygulamak zorundadı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73A-3470-4B7E-83F2-418CF5C81D94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00007d"/>
                </a:solidFill>
                <a:uFillTx/>
                <a:latin typeface="Arial"/>
              </a:rPr>
              <a:t>DURUMSALLIK YAKLAŞ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rgütsel sorun ve olaylar, gerçekçi ve mantıksal temellere dayanan analizlerle çözümlenmelid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ogmatik ve körü körüne bir genelci görüşün savunucusu olunmam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CF3-F08F-4673-A9BC-5240E075C59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7d"/>
                </a:solidFill>
                <a:latin typeface="Arial"/>
              </a:rPr>
              <a:t>DURUMSALLIK YAKLAŞ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urumsallık yaklaşımında, örgütün çalışması bazı değişkenlerin karşılıklı etkileşimleri ile meydana gelmektedir ve tek yönlü iletişim söz konusu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güt çevresi arasındaki etkileşimleri 3 kısımda inceleyebilir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güt içi Çe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kın Çe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Çe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3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E81-A8C5-46D7-B5CD-30CCED80F5E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158760" y="500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7020000" y="4581360"/>
            <a:ext cx="1871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4788000" y="4581360"/>
            <a:ext cx="1871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8"/>
          <p:cNvSpPr/>
          <p:nvPr/>
        </p:nvSpPr>
        <p:spPr>
          <a:xfrm>
            <a:off x="2484360" y="4581360"/>
            <a:ext cx="1871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250920" y="4581360"/>
            <a:ext cx="1871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395280" y="4724280"/>
            <a:ext cx="85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l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re          Yak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re           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g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re      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g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el Etki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1"/>
          <p:cNvSpPr/>
          <p:nvPr/>
        </p:nvSpPr>
        <p:spPr>
          <a:xfrm>
            <a:off x="1116000" y="4005360"/>
            <a:ext cx="68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1116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>
            <a:off x="3348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795672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5580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>
            <a:off x="3348000" y="595008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8028000" y="53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3"/>
          <p:cNvSpPr/>
          <p:nvPr/>
        </p:nvSpPr>
        <p:spPr>
          <a:xfrm flipV="1">
            <a:off x="3348000" y="53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Durumsall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ı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k Yakla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şı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mlar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ı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ndan 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Çı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kar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ı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labilecek Genel Sonu</a:t>
            </a:r>
            <a:r>
              <a:rPr b="0" lang="tr-TR" sz="4000" spc="-1" strike="noStrike" u="sng">
                <a:solidFill>
                  <a:srgbClr val="00007d"/>
                </a:solidFill>
                <a:uFillTx/>
                <a:latin typeface="Arial"/>
              </a:rPr>
              <a:t>ç</a:t>
            </a:r>
            <a:r>
              <a:rPr b="0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958-1E7B-4244-A5A7-F3A581A4C340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ye 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ve bir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alt sistemlerin k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kil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eri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 faaliyette bulunmakta b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makta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m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den soyutlanama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 i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erini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upta incelemek gerekli olmakta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grubu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el etkinlik ve b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inde r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el b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onucu az vey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bu 3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 kavra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kileyeb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6B3-CB20-4226-A160-E0FD903F411F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enel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taraf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an etkilenmesi son derece zor hatta imkans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r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l ve yak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e elemanla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kileyen hususlardan olu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tamd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4CA7-E3B0-4F66-836B-28DB79A01B0D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Arial"/>
              </a:rPr>
              <a:t>DURUMSALLIK YAKLAŞIMINA KATKIDA BULUNAN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handler’in çevre,strateji yapı ilişkisi mod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ns 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lker’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ştırma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wrence  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sch ‘un Araştırma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awitt’in bireyler arası ilişkiler ve işletme içi etkileşim mod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ames Th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on’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laşım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mer- Richman’ı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d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fand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sad  yaklaşım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s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ub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laşım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handwa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laşım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6D35-C09F-4560-8790-B43134711CC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enel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yal-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kuk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itim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ke bas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lojik bas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sel ve ahlak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C36-3B31-4B25-BBB7-3B4F4D4E099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Yak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n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b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e denetimi al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a olmayan ama kuvvetli etkileme ola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faaliyet ve son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an etkilenebile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manda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ya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den de b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etk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3E8-4022-42CD-A2AC-C78095DC042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Yak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ı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n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ki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urulu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en kurulu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ynak saglayan kurulu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sahi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edi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c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 bay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k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e halk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E37-605D-4DDC-9E7F-904C6C20C665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y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e y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kendi kendi denetimi alt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a ol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an deg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klik yapabilecegi 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re unsurla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DCBA-74E1-4A92-A9B8-E28BE11265B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am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 stratej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b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y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im b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ve felsef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hukuksal b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menin kulland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knolo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erinin (birey ve grup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) davra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el haberl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 yap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 d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el yap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590-7200-470E-8CAB-954A10F1558E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Ç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ki ve sorumluluk yap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zmanl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, standartl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 ve b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ellik derec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trol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k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el mo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 i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azala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el dev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540-9507-4095-8385-4E8FDDE40A2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00007d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sel Etkinl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un 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de dengeli kar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da ar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irlerde ar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b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sal kaynak yaratabilme ve likidite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ar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a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g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06D-0BED-4477-9531-793C163DB18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URNS ve STALKER’IN ARA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RMAL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ya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aşım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da kat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bulunan ve durumsal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ya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aşım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og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yol 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psikolog ve sosyolog k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er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el fak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lerin 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me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mini na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etkiledigi ve fark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el k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lara sahip bu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erden elde edilen bilgiler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a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m sistemler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ki temel grupta toplanm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ş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kanistik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m Sistem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Organik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m Sist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9C7F-9BB2-4C01-BEF1-E4AD9D70093D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Mekanistik </a:t>
            </a:r>
            <a:r>
              <a:rPr b="0" lang="tr-TR" sz="4400" spc="-1" strike="noStrike" u="sng">
                <a:solidFill>
                  <a:srgbClr val="ff0000"/>
                </a:solidFill>
                <a:uFillTx/>
                <a:latin typeface="Arial"/>
              </a:rPr>
              <a:t>Ö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g</a:t>
            </a:r>
            <a:r>
              <a:rPr b="0" lang="tr-TR" sz="4400" spc="-1" strike="noStrike" u="sng">
                <a:solidFill>
                  <a:srgbClr val="ff0000"/>
                </a:solidFill>
                <a:uFillTx/>
                <a:latin typeface="Arial"/>
              </a:rPr>
              <a:t>ü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lerde ihtisasl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a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verilm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ir fonksiyonel role il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 teknik 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mleri anlatan, yetki ve sorumlulu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rleyen t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amalar v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orite, kontrol ve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hiyer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 bir ya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 sahip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runla ilgil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eri ara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a ve astlar il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er ara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a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ve etki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dikey 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e cereyan et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liyetler ve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vr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erin talima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 onlar taraf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an 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 kararlarla 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7C99-2FB3-40E1-B34E-96D2725CF3D8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ekanistik 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ffff66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knik bil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neyim ve usta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r; genel 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esel il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lidir v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erine daha fazla prestij sag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ik k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u olarak, sorunlara sahip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a v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ere ba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kazan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ci (tepe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cisi); uzman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k birbirinden ay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bi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 ihtisas ve 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 yerlerinin baglan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 koordinasyonunu sag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ve hedefleri hak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a tek ve g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 bilgi sahibi olan mevkii tepe 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m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05E5-0129-44B5-899B-B5C7712CE9B4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kanistik 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im karm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r hiyer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olarak al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; her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porlar ve haberler belirli kanallardan 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ek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kanallara; emir ve talimatlar da yine a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demelerden g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k en alt basamaklara kadar iner. 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im merkeziye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bir nitelik arz et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4292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ekanistik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ö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g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 yap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ar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ç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vresel k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ş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llarda istikrar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 oldugu yeni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 ve hizmet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tme ve geli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ş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irme gereksinimi ya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ş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mayan end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trilerde cal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ş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 i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ş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etmeler icin uygun yap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ard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0D3-DC81-444E-B52B-31AB8EEEC65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ganik 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esel k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lara uygun bir sistem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eyler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 bilgi ve deneyimlerinin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ine kat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bulunabilecegini kabul eden sistem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eylerara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ile bireysel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de 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i ayarlamalar ya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; 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, yeniden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 t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ey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yatay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y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ver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k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ylerdeki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ler birbirleriyle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olana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lurlar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az 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).Bu nedenle, k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erara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er emir komutada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d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niteligind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l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in kapsa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r, rapor verme ve almadan ziyade; bilgi 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olu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Slayt Numarası Yer Tutucusu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5B6-46E5-49F2-A5B0-2C462A2E8611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ganik 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g</a:t>
            </a: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eylerin genel olarak sahip oldu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cari, teknik ve en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yel konulardaki bilgi ve uzman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lidir. Belli bir konuda ihtisasl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yerine genel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mecilik bilgileri, bun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esel degiskenlere ve birbirleriyle olan il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erini kurabilme ve sentez meydana getirebilm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arz etmekt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eysel 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ini kendilerine sunulan kurallar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sinde degil; 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g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 ve hedeflerinin 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e tutulma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linci ile yapa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1:19Z</dcterms:created>
  <dc:creator>Harun</dc:creator>
  <dc:description/>
  <dc:language>en-US</dc:language>
  <cp:lastModifiedBy>Cemal ZEHİR</cp:lastModifiedBy>
  <dcterms:modified xsi:type="dcterms:W3CDTF">2024-11-04T11:48:38Z</dcterms:modified>
  <cp:revision>189</cp:revision>
  <dc:subject/>
  <dc:title>Slayt Başlığı Yok</dc:title>
</cp:coreProperties>
</file>