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3CD0-00C7-4760-B7C4-5289B776A5A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EAF3-2CC1-4857-A3EB-EE3EB7CDCBC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55A-F3A9-4A34-938F-59203BCB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695-5A77-4061-9FD3-459CFF02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ED1-9CD1-484D-B7A1-5D614057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362-0334-4015-84AE-5C3529B6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04347-5BD2-4E5B-917B-21DB89DB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A40E7-C8CF-4EBD-8007-F9461873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F63F1-0D08-4147-B2FD-F3B7308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CD356-65CB-4B1C-B3E1-717F0346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5EC47-C8BC-4F80-B673-7586FC15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D8D7-607E-45B0-8BA2-BAA43AFF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54FFB-5DE1-4D0A-BF06-45BB3F8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1C1-A592-48F4-8461-971BA1AB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B4CF9-2BA8-4C8F-B8FF-C5CD5C1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FA7B2-58B4-46CD-8DFA-5228545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A257C-5DCB-40D2-B01E-7084E166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4C6B-9D16-45B3-AAE7-E93B3E86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4580-A68F-46DD-A66A-8A7ED9CA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F9D-AF7E-4B6D-B087-33EA4C3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D90-155F-4AB0-83AB-53027E88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BE0-E62D-4885-9272-BE17EB2F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9E6-0758-4F31-9AFB-EEF19F3E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6DE-FD43-489F-A7DC-D551A92E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193-D861-40E9-ABCC-4FEA722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CD5-1EE3-4F39-8908-3ADDAFC2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E55B-B332-4993-AC37-60F507D38BA5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HARUN DEMİRKA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5C1A-69ED-4709-8385-625BEC41A53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HARUN DEMİRKA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FCA-04F9-49E9-8D1B-E0861BE7CBD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25EB-98E2-4118-B57B-A2D034FA9842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Tahoma"/>
              </a:rPr>
              <a:t>YÖNETİM AKIMLAR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KLASİK YÖNETİM AKI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PROF.DR. CEMAL ZEHİ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588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70’lere kadar uzanan süreçte endüstrileşmiş ülkeler, Taylorist yönetim ve Fordist üretim   anlayışlarıyla etkinlik ve verimlilik sağlamışlardı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758880"/>
            <a:ext cx="57690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ylorizm, maksimum verimi elde etmek için üretimi yapmanın en iyi yolunu bulmayı amaçlar. Bu anlayışta emek vasıfsızlaştırılarak, insan, üretim bandının bir uzantısı gibi görül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hape 35"/>
          <p:cNvSpPr/>
          <p:nvPr/>
        </p:nvSpPr>
        <p:spPr>
          <a:xfrm>
            <a:off x="6226200" y="758880"/>
            <a:ext cx="2460600" cy="496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hape 36"/>
          <p:cNvSpPr/>
          <p:nvPr/>
        </p:nvSpPr>
        <p:spPr>
          <a:xfrm>
            <a:off x="6540480" y="5726160"/>
            <a:ext cx="183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rederick Tay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58880"/>
            <a:ext cx="5284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dizm de Taylorizm’in etkileriyle ortaya çıkmış bir üretim sistemidir. Her bir işçi üretim bandında çok küçük ve vasıfsız bir işle görevlendirilmiş olup, üretilen ürünün ne olduğu konusunda bilgisizd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Shape 42"/>
          <p:cNvSpPr/>
          <p:nvPr/>
        </p:nvSpPr>
        <p:spPr>
          <a:xfrm>
            <a:off x="5742000" y="758880"/>
            <a:ext cx="2944800" cy="496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Shape 43"/>
          <p:cNvSpPr/>
          <p:nvPr/>
        </p:nvSpPr>
        <p:spPr>
          <a:xfrm>
            <a:off x="6039000" y="5726160"/>
            <a:ext cx="2349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Henry F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588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 iki anlayış da özetle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ifiye düzeyi düşük işçilerin, büyük ölçekli işletmelerde yoğunlaşması olarak sayılabil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hape 49"/>
          <p:cNvSpPr/>
          <p:nvPr/>
        </p:nvSpPr>
        <p:spPr>
          <a:xfrm>
            <a:off x="3025800" y="3497400"/>
            <a:ext cx="3092400" cy="291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588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cak 1970 sonrası dönemde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üretim teknolojilerinin gelişmesiyle birlikte ürün çeşitliliği kavramı ortaya çıkmış, standart üretime elverişli kitlesel üretim anlayışları (Taylorizm, Fordizm) bu talebi karşılayamamıştı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40F-91A0-4BD7-AAC6-ED77B8122F8F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Tahoma"/>
              </a:rPr>
              <a:t>HENRY FAYOL: 1916 =&gt;Sanayi ve Genel Faaliyetlerde Yöneti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Fayol   : Bir örgütü yönetmek veya o örgütün birimlerinin birinin başında bulunan bir yöneticinin yapması gereken faaliyetleri, bunlara ilişkin ilke ve kuralları açıkl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Taylor : İş göreninin yaparken uyması gereken ilke ve kuralları, işte gerekli olan hareketleri, zamanı ve yöntemi açıkl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Fayol   : Örgütlerin, psiko-sosyal yönünü incelemiştir. Örgütlerde insanlar arası ilişkiler üzerinde çalışmıştı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Taylor : İşletmenin, psiko-teknik yönünü incelemişti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( İnsan araç ilişkisi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85E8-5852-4F66-B464-A5D3C839C94B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H.Fayol’un Görüş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İşletme faaliyetleri 6 başlık altında incelen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1) Ticari faaliyet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2) Teknik faaliyet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3) Finansal faaliyet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4) Güvenlik faaliyetle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5) Muhasebe faaliyetle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6) Yönetim faaliyetle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) Öngörme ve plan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b) Örgütlen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c) Emir – kumanda –  haberleşme - yürüt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d) Koordinasy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e) Denetleme - değerlendir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3FA4-82A8-496D-B9AF-7CBA927E1852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361800"/>
            <a:ext cx="777240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FAYOL’UN YÖNETİM KURALL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Astlar arasında yetenek, bilgi, beceriye göre iş bölümü yaparak uzmanlaşmayı sağlam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Astlara yapacakları faaliyetlerle ilgili olarak maddi ve beşeri kaynakları kullanabilme yetki ve sorumluluk ver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İşlerin belli düzen ve zamanda yerine   gelmesini sağlayacak disiplin sistemi ku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56B0-2201-4733-857D-17E5E60B2B4A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361800"/>
            <a:ext cx="777240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FAYOL’UN YÖNETİM KURALL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Her astın yalnız bir yöneticiden emir almasını sağlayacak bir kumanda birliği oluştu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Bir yönetim birliği meydana getir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Örgütsel amaç ve çıkarları, bölüm ve kişisel amaçlardan çıkarlardan üstün tut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İşletmede herkesi kapsayan cezalandırma sistemi kur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3923-B4CA-49EA-8FC6-8E49032CFC24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361800"/>
            <a:ext cx="777240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FAYOL’UN YÖNETİM KURALL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Yönetsel yetkilerin dağıtımında titiz ol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st - üst arasında emir kumanda, sonuçların rapor edilmesi, yukardan aşağıya hiyerarşik düzen oluştur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Örgütte tüm üretim araçlarına etkin ve verimli biçimde hizmet edebilecekleri bir yer tayin et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Personelde devamlılığı sağlama, düzenli ve dengeli bir iş verimini gerçekleştir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9F86-A79D-4328-A820-96F79C10A048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KLASİK ÖNCESİ YAKLAŞIMA KATKIDA BULUNAN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5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ROBERT OWEN  ( 1771 - 1858 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İnsan kaynaklarının önemini anlamışt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13 saatlik mesailerle 400-500 çocu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çalıştırılıyord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İskoçya’da Cotton Mill Firması 10 yaşınd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küçüklerin çalıştırılmasını yasaklamış 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mesai saatini 10.5 saate indirmiştir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BB9-FD72-4144-BBE3-71EDD32A15C0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61440"/>
            <a:ext cx="777240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FAYOL’UN YÖNETİM KURALL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İşletme faaliyetlerini yürütmek için sorunlar ortaya çıkmadan önce önlemler al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Personel arasında objektif  ve adil davranmaya çaba göster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Astlar ve tüm çalışanlar arasında birlik ve beraberlik ruhunun yerleşmesi için çalış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D58-8DE0-452D-8193-E5ACFCB6110D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MAX WEBER  BÜROKRASİ MODEL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MAX WEBER’E  GÖ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 u="sng">
                <a:solidFill>
                  <a:srgbClr val="ffffff"/>
                </a:solidFill>
                <a:uFillTx/>
                <a:latin typeface="Tahoma"/>
              </a:rPr>
              <a:t>3Tip yetki vardır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1- Geleneksel yetki : Babadan oğla geçen, doğuştan kazanılan ve kişisel olan yet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2- Karizmatik yetki : Kahramanlık, kutsallık, büyücülük ve benzer üstün kişisel beceri ve niteliklere dayanan yetki. Kendine inananlardan oluşan bir astlar grubuna sahipt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3-Meşru  yetki :Demokratik, yasal ve akılcı düzenlemelerin olduğu hukuk devletindeki yetkid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CEA4-D3F2-4E4D-B996-B84137E4ED38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720" y="303120"/>
            <a:ext cx="7704000" cy="7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BÜROKRASİ MODEL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Amaç, faaliyet ve görev biçimlerinden oluşan bir örgüt biçimi meydana getirilmiş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Bu örgütte görevlilerin maddi ve beşeri kaynakları kullanabilme yetkileri açıklanmışt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Yetkilerin kullanılmasında başvurulacak cezalar, ücretlendirme ve ödüllendirme sistemi geliştirilmiş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İşe göre adam ( yönetici ) seçme zorunluluğu var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AD94-E788-4A5A-99D1-0376C3E59EBC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0720" y="288720"/>
            <a:ext cx="770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BÜROKRASİ MODEL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Her alt mevki kendisinin bağlı olduğu üst mevki tarafından denetl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Keyfi yönetime yer yok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Evraklar, ispat aracı olarak dosyalarda saklan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Görevler tüzük ve yönetmeliklere göre yerine getiril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Görevler, yerine getirilirken hiç kimse emrine tahsis edilen araçları keyfi için kullanama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5CDA-5C2B-4B72-995D-411D72BF4FC0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Tahoma"/>
              </a:rPr>
              <a:t>BÜROKRATİK MODEL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134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Bilimsel ve ideal bir niteliğe sahipt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Uzmanlaş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Yöneticilerin demokratik olarak görevlendirilmele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Tahoma"/>
              </a:rPr>
              <a:t>Yönetim için akılcı, güçlü, amaçlara ulaştıracak sağlam örgüt yapısı kurulmas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Hiçbir kural ve norm, kişisel yönetim yo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Çevre istikrarlı ve dengelid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Yönetim, örgütsel amaçları gerçekleştirme aracıd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Kişisel amaçlar göz ardı edili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022-113E-4577-ABAA-1396EBFF20EC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8840" y="325080"/>
            <a:ext cx="79563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KLASİK ÖNCESİ YAKLAŞIMA KATKIDA BULUNAN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CHARLES BABBAGE ( 1792 - 1871 ) =&gt; Hesa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makinesi ve modern bilgisayar dizaynı ve kullanımı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Uzmanlaşmanın yararına inanmıştır.(hem fiziks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hem zihinsel ) Grup çalışmaları ve Ödüllendir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konularına eğilmiş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HENRY TOWNE ( 1844 - 1924 )=&gt; Mühendisler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ekonomist gibi düşünüp üretimlerini piyasada kâ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yapacak biçimde verimli yapmalılar demiş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F.Taylor’a ışık tutmuş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38C-7BFD-44A7-A225-ADB7D7ABC3C0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2889360" y="2308320"/>
          <a:ext cx="15048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308320"/>
                    <a:ext cx="15048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228600" y="762120"/>
          <a:ext cx="369900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2120"/>
                    <a:ext cx="36990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4"/>
          <p:cNvSpPr/>
          <p:nvPr/>
        </p:nvSpPr>
        <p:spPr>
          <a:xfrm>
            <a:off x="990720" y="2819520"/>
            <a:ext cx="213336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Times New Roman"/>
              </a:rPr>
              <a:t>KLASİ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Times New Roman"/>
              </a:rPr>
              <a:t>(GELENEKS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Times New Roman"/>
              </a:rPr>
              <a:t>YAKLAŞIM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Times New Roman"/>
              </a:rPr>
              <a:t>1900-19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484960" y="1295280"/>
            <a:ext cx="3657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imsel yönetim yaklaşım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315200" y="2819520"/>
            <a:ext cx="1827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önetim süreci yaklaşım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562720" y="4614840"/>
            <a:ext cx="2286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ürokrasi yaklaşım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5187960" y="1758960"/>
            <a:ext cx="901800" cy="444600"/>
          </a:xfrm>
          <a:prstGeom prst="rightArrow">
            <a:avLst>
              <a:gd name="adj1" fmla="val 50000"/>
              <a:gd name="adj2" fmla="val 101502"/>
            </a:avLst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959360" y="4807080"/>
            <a:ext cx="901800" cy="444240"/>
          </a:xfrm>
          <a:prstGeom prst="rightArrow">
            <a:avLst>
              <a:gd name="adj1" fmla="val 50000"/>
              <a:gd name="adj2" fmla="val 101584"/>
            </a:avLst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330960" y="3206880"/>
            <a:ext cx="901800" cy="444240"/>
          </a:xfrm>
          <a:prstGeom prst="rightArrow">
            <a:avLst>
              <a:gd name="adj1" fmla="val 50000"/>
              <a:gd name="adj2" fmla="val 101584"/>
            </a:avLst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414680" y="3200400"/>
            <a:ext cx="183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enri  Fayol </a:t>
            </a: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1841-19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2590920" y="16002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rederic Taylor </a:t>
            </a: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1856-19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048120" y="48006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ax Weber </a:t>
            </a: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1864-1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C402-77BB-45F7-A35F-197E1216972C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Tahoma"/>
              </a:rPr>
              <a:t>KLASİK YÖNETİ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REDERICK TAYLOR 1911 yılında ‘ </a:t>
            </a:r>
            <a:r>
              <a:rPr b="1" i="1" lang="tr-TR" sz="2400" spc="-1" strike="noStrike">
                <a:solidFill>
                  <a:srgbClr val="ffffff"/>
                </a:solidFill>
                <a:latin typeface="Tahoma"/>
              </a:rPr>
              <a:t>BİLİMS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ffff"/>
                </a:solidFill>
                <a:latin typeface="Tahoma"/>
              </a:rPr>
              <a:t>YÖNETİM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 ’ adlı kitabını yayımlamış ve klasi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yönetim yaklaşımını başlatmışt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ylor incelemelerinde sanayide çalışan işçiler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ekonomik olarak çalıştırılmadıklarını gözlemiştir. B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durumun 2 zararlı sonucu vard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İnsan, işin gerekli olmayan birtakım hareketl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yapmaktaydı böylece işe harcayacağı enerji 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zamanın büyük kısmı boşa gidiyord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3519-008C-4C96-8A1A-CED1FDE00EB3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Tahoma"/>
              </a:rPr>
              <a:t>KLASİK YÖNETİ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Çalışma saatini tamamlayıp belli bir süre son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paydos etmesi sonucunda elde edilen verim düşü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luyord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Çünkü zamanın çoğu da zaten gereksiz harekete gidiyord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İş görenler iş yaparken atıl duran vücut azalarından yeterince yararlanmıyorlard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Gereksiz hareket ve oyalanmalarda bulunuyorlard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Çalışma süreleri ve dinlenme sürelerini iyi ayarlayamıyorlard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757A-F312-4919-8C96-AD150E31AE2A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777240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ffff00"/>
                </a:solidFill>
                <a:latin typeface="Tahoma"/>
              </a:rPr>
              <a:t>TAYLOR’UN İLKELER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Bir iş verimli şekilde yapılmak isteniyorsa,eski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alışılmış usulleri bir kenara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bırakarak yeni yönetim geliştirmey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çalışılmalıdı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Bu sebeple zaman ve hareket etütlerin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girişilmelidir. İşte yapılan gereksiz hareketler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önlenmelidi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İşi etkin ve hızlı biçimde yapması için işgöre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özendirilmelidir. Bunun için belirli üretim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miktarına ulaşanlara prim ve ikramiyeler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Tahoma"/>
              </a:rPr>
              <a:t>verilmelidi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E4C-3610-4CB2-9D52-4CB65F2AEB9F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İş görenin çalışmasını belirleyen kurallar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kapsayan yöntemi uygulamak ve diğer çalış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koşullarını düzenlemek için tecrübel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ustabaşılar kullanılma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Genç mühendislerin geliştirdikleri yöntem 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sistemleri üst kademe yöneticilerini tamam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ikna etmeden yürürlüğe koymamaların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söylemiş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ffff00"/>
                </a:solidFill>
                <a:latin typeface="Tahoma"/>
              </a:rPr>
              <a:t>TAYLOR’UN İLKELER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6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CA2B-8199-4FC8-AA8A-8B12925FA17D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ffff00"/>
                </a:solidFill>
                <a:latin typeface="Tahoma"/>
              </a:rPr>
              <a:t>ELEŞTİRİL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İnsan, makine gibi görülüyor. Duyguları önemsenmiy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Motivasyon aracı sadece paradır.İnsanları vasat, bencil, sorumluluktan kaçan olarak düşündüğü için onları sürekli kontrol altında tutuy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Dolayısıyla çalışanlar ceza alacakları korkusunu  taşıyorlar ve huzursuz oluyorl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Tahoma"/>
              </a:rPr>
              <a:t>Motivasyon aracı olarak sadece paranın düşünülmesi yanlış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1:19Z</dcterms:created>
  <dc:creator>Harun</dc:creator>
  <dc:description/>
  <dc:language>en-US</dc:language>
  <cp:lastModifiedBy>Windows Kullanıcısı</cp:lastModifiedBy>
  <dcterms:modified xsi:type="dcterms:W3CDTF">2021-11-01T16:46:08Z</dcterms:modified>
  <cp:revision>103</cp:revision>
  <dc:subject/>
  <dc:title>Slayt Başlığı Yok</dc:title>
</cp:coreProperties>
</file>