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15.png" ContentType="image/pn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5.jpeg" ContentType="image/jpeg"/>
  <Override PartName="/ppt/media/image29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6A4-5581-47E2-B61C-4F031BED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176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056-1D22-40E4-B66A-CC766E82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176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176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4D8-2113-47A8-BFA4-BDA1F519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176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176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176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8E8-15FF-4489-ACEE-78533A1F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780-A341-4AF6-8D5D-0259ABAE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8E90-C9BC-4990-9439-42D07BC0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0BA-37D0-4722-A530-C36D43C4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35A-A556-489D-B492-2BE4A650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F9A-4ECC-4032-9CD9-0E4297F8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176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913-F4EA-4D5B-9E8C-26D46190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176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881-76CA-490B-8E13-F683DDCA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176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475-23FE-4192-80E3-3B0106D7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29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828800" y="624492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391160" y="62481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235F-B32A-47DD-BA5A-D205F7DB9A8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6095880"/>
            <a:ext cx="91440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838080"/>
            <a:ext cx="91440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Jayhawk"/>
          <p:cNvPicPr/>
          <p:nvPr/>
        </p:nvPicPr>
        <p:blipFill>
          <a:blip r:embed="rId2"/>
          <a:stretch/>
        </p:blipFill>
        <p:spPr>
          <a:xfrm>
            <a:off x="8431200" y="6189840"/>
            <a:ext cx="66348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upload.wikimedia.org/wikipedia/commons/8/81/Otto-lilienthal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oeing.com/commercial/777family/gallery/index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://upload.wikimedia.org/wikipedia/en/c/c2/Cayley_Glider_Replica_Flown_By_Derek_Piggott_2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AD57-67BA-43CD-8ECC-2BF200E4331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aptive_carry"/>
          <p:cNvPicPr/>
          <p:nvPr/>
        </p:nvPicPr>
        <p:blipFill>
          <a:blip r:embed="rId1"/>
          <a:srcRect l="0" t="-7" r="0" b="-21"/>
          <a:stretch/>
        </p:blipFill>
        <p:spPr>
          <a:xfrm>
            <a:off x="0" y="91440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E-245: Introduction to Aerospace Engineering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#1: Introduction to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5486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or: Richard Braml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or: Dr. Ron Barr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095880" y="586728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d Composites White Knight &amp; Spaceship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130D-9694-4B26-A939-905E06FD2126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tto Lilientha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12" name="Picture 3" descr="http://flyingpilot.com/images/lilienthal.jpg"/>
          <p:cNvPicPr/>
          <p:nvPr/>
        </p:nvPicPr>
        <p:blipFill>
          <a:blip r:embed="rId1"/>
          <a:stretch/>
        </p:blipFill>
        <p:spPr>
          <a:xfrm>
            <a:off x="2057400" y="99072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File:Otto-lilientha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320" y="990720"/>
            <a:ext cx="1871640" cy="25146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8"/>
          <p:cNvSpPr/>
          <p:nvPr/>
        </p:nvSpPr>
        <p:spPr>
          <a:xfrm>
            <a:off x="0" y="974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to Lilienth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609480" y="32767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ussia (German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3352680" y="32767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ilienthal piloting his gl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205740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9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Der Vogelflug"/>
          <p:cNvPicPr/>
          <p:nvPr/>
        </p:nvPicPr>
        <p:blipFill>
          <a:blip r:embed="rId4"/>
          <a:stretch/>
        </p:blipFill>
        <p:spPr>
          <a:xfrm>
            <a:off x="2895480" y="3581280"/>
            <a:ext cx="3353040" cy="24670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4"/>
          <p:cNvSpPr/>
          <p:nvPr/>
        </p:nvSpPr>
        <p:spPr>
          <a:xfrm>
            <a:off x="5410080" y="9907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76320" y="3581280"/>
            <a:ext cx="281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hich leads us to a quick development in human flight is a systematic and energetic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actice in actual flying experim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228600" y="43434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to Lilienthal (188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1600200" y="28195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crifices must be mad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1371600" y="29718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lienthal’s Epitaph (18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5486400" y="990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00 successful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5486400" y="1447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s in photography spread his experiments worldw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5486400" y="28195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the most detailed data available at th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5486400" y="21337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maintained ornithopter design for propul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5" descr="Originalzeichnung"/>
          <p:cNvPicPr/>
          <p:nvPr/>
        </p:nvPicPr>
        <p:blipFill>
          <a:blip r:embed="rId5"/>
          <a:stretch/>
        </p:blipFill>
        <p:spPr>
          <a:xfrm>
            <a:off x="6477120" y="3505320"/>
            <a:ext cx="2212920" cy="2428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6"/>
          <p:cNvSpPr/>
          <p:nvPr/>
        </p:nvSpPr>
        <p:spPr>
          <a:xfrm>
            <a:off x="76320" y="4830840"/>
            <a:ext cx="2819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the men who attacked the flying problem in the 1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to Lilienthal was the most impor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228600" y="544032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bur Wright in Aero Club of America Bulletin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2971800" y="577548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lienthal’s Book  “Bird Flight as the Basis of Avi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E661-42F8-4006-A07E-C35AF50F093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amuel Langley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6" name="Picture 6" descr="Samuel Pierpont Langley"/>
          <p:cNvPicPr/>
          <p:nvPr/>
        </p:nvPicPr>
        <p:blipFill>
          <a:blip r:embed="rId1"/>
          <a:stretch/>
        </p:blipFill>
        <p:spPr>
          <a:xfrm>
            <a:off x="76320" y="990720"/>
            <a:ext cx="2143080" cy="28098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76320" y="99072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uel Pierpont Lang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0" y="3581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4419720" y="990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ally tested airfoils and 100 different rubber-band-powered and steam-powered scale models by 18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419720" y="23004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the tandem-winged ‘Aerodrome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2" descr="Langley full-scale aerodrome during the fateful crash"/>
          <p:cNvPicPr/>
          <p:nvPr/>
        </p:nvPicPr>
        <p:blipFill>
          <a:blip r:embed="rId2"/>
          <a:stretch/>
        </p:blipFill>
        <p:spPr>
          <a:xfrm>
            <a:off x="7086600" y="3276720"/>
            <a:ext cx="1946160" cy="2743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6" descr="Schematic of a Langley Aerodrome"/>
          <p:cNvPicPr/>
          <p:nvPr/>
        </p:nvPicPr>
        <p:blipFill>
          <a:blip r:embed="rId3"/>
          <a:stretch/>
        </p:blipFill>
        <p:spPr>
          <a:xfrm>
            <a:off x="2286000" y="990720"/>
            <a:ext cx="2050920" cy="2819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7"/>
          <p:cNvSpPr/>
          <p:nvPr/>
        </p:nvSpPr>
        <p:spPr>
          <a:xfrm>
            <a:off x="4419720" y="26812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assistant, Charles Manly, would fl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Langley full-scale aerodrome under repair by Curtiss and in flight"/>
          <p:cNvPicPr/>
          <p:nvPr/>
        </p:nvPicPr>
        <p:blipFill>
          <a:blip r:embed="rId4"/>
          <a:stretch/>
        </p:blipFill>
        <p:spPr>
          <a:xfrm>
            <a:off x="76320" y="3886200"/>
            <a:ext cx="4114800" cy="20955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0"/>
          <p:cNvSpPr/>
          <p:nvPr/>
        </p:nvSpPr>
        <p:spPr>
          <a:xfrm>
            <a:off x="4419720" y="19051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fully flew powered scal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4191120" y="4191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erodrome crashed on launch in 1903, weeks before the Wright brothers’ successful f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70102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rash of the Aerodr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A39A-263A-4CEB-B904-BDB43E3DDD4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rville and Wilbur Wrigh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52" name="Picture 21" descr="http://256.com/gray/blog/2005/03/22_2/wright_brothers_orville_wilbur.jpg"/>
          <p:cNvPicPr/>
          <p:nvPr/>
        </p:nvPicPr>
        <p:blipFill>
          <a:blip r:embed="rId1"/>
          <a:stretch/>
        </p:blipFill>
        <p:spPr>
          <a:xfrm>
            <a:off x="76320" y="99072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22"/>
          <p:cNvSpPr/>
          <p:nvPr/>
        </p:nvSpPr>
        <p:spPr>
          <a:xfrm>
            <a:off x="0" y="974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rville &amp; Wilbur W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380880" y="36576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5" descr="http://upload.wikimedia.org/wikipedia/commons/b/b2/WrightGlidersSideBySide.jpg"/>
          <p:cNvPicPr/>
          <p:nvPr/>
        </p:nvPicPr>
        <p:blipFill>
          <a:blip r:embed="rId2"/>
          <a:stretch/>
        </p:blipFill>
        <p:spPr>
          <a:xfrm>
            <a:off x="2362320" y="1219320"/>
            <a:ext cx="2819160" cy="23968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6"/>
          <p:cNvSpPr/>
          <p:nvPr/>
        </p:nvSpPr>
        <p:spPr>
          <a:xfrm>
            <a:off x="3200400" y="33526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sting One of Their K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5257800" y="1600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wing-warping for control based on observation of bi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8"/>
          <p:cNvSpPr/>
          <p:nvPr/>
        </p:nvSpPr>
        <p:spPr>
          <a:xfrm>
            <a:off x="5257800" y="990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lew several kites and manned gli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9"/>
          <p:cNvSpPr/>
          <p:nvPr/>
        </p:nvSpPr>
        <p:spPr>
          <a:xfrm>
            <a:off x="5257800" y="2286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t first modern wind tun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0"/>
          <p:cNvSpPr/>
          <p:nvPr/>
        </p:nvSpPr>
        <p:spPr>
          <a:xfrm>
            <a:off x="5791320" y="2681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d a basic force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2" descr="File:WB Wind Tunnel.jpg"/>
          <p:cNvPicPr/>
          <p:nvPr/>
        </p:nvPicPr>
        <p:blipFill>
          <a:blip r:embed="rId3"/>
          <a:stretch/>
        </p:blipFill>
        <p:spPr>
          <a:xfrm>
            <a:off x="5181480" y="31240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3"/>
          <p:cNvSpPr/>
          <p:nvPr/>
        </p:nvSpPr>
        <p:spPr>
          <a:xfrm>
            <a:off x="6400800" y="5867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plica of the Wright Brother’s Wind Tu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7" descr="http://historicaircraftpictures.com/WRIGHT_BIOPLANE_Showing_WING_WARP_ca_1910.jpg"/>
          <p:cNvPicPr/>
          <p:nvPr/>
        </p:nvPicPr>
        <p:blipFill>
          <a:blip r:embed="rId4"/>
          <a:stretch/>
        </p:blipFill>
        <p:spPr>
          <a:xfrm>
            <a:off x="0" y="3887640"/>
            <a:ext cx="5181480" cy="22082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8"/>
          <p:cNvSpPr/>
          <p:nvPr/>
        </p:nvSpPr>
        <p:spPr>
          <a:xfrm>
            <a:off x="2438280" y="388620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g Warp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9"/>
          <p:cNvSpPr/>
          <p:nvPr/>
        </p:nvSpPr>
        <p:spPr>
          <a:xfrm flipV="1">
            <a:off x="380880" y="3962520"/>
            <a:ext cx="0" cy="3808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0"/>
          <p:cNvSpPr/>
          <p:nvPr/>
        </p:nvSpPr>
        <p:spPr>
          <a:xfrm flipV="1">
            <a:off x="228600" y="3962520"/>
            <a:ext cx="0" cy="3808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1"/>
          <p:cNvSpPr/>
          <p:nvPr/>
        </p:nvSpPr>
        <p:spPr>
          <a:xfrm flipV="1">
            <a:off x="7632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2"/>
          <p:cNvSpPr/>
          <p:nvPr/>
        </p:nvSpPr>
        <p:spPr>
          <a:xfrm flipV="1">
            <a:off x="533520" y="3962520"/>
            <a:ext cx="0" cy="3808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3"/>
          <p:cNvSpPr/>
          <p:nvPr/>
        </p:nvSpPr>
        <p:spPr>
          <a:xfrm flipV="1">
            <a:off x="685800" y="3962520"/>
            <a:ext cx="0" cy="3808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4"/>
          <p:cNvSpPr/>
          <p:nvPr/>
        </p:nvSpPr>
        <p:spPr>
          <a:xfrm flipV="1">
            <a:off x="838080" y="3962520"/>
            <a:ext cx="0" cy="3808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5"/>
          <p:cNvSpPr/>
          <p:nvPr/>
        </p:nvSpPr>
        <p:spPr>
          <a:xfrm flipV="1">
            <a:off x="990720" y="3962520"/>
            <a:ext cx="0" cy="3808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6"/>
          <p:cNvSpPr/>
          <p:nvPr/>
        </p:nvSpPr>
        <p:spPr>
          <a:xfrm flipV="1">
            <a:off x="1143000" y="3962520"/>
            <a:ext cx="0" cy="3808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7"/>
          <p:cNvSpPr/>
          <p:nvPr/>
        </p:nvSpPr>
        <p:spPr>
          <a:xfrm flipV="1">
            <a:off x="1295280" y="40381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8"/>
          <p:cNvSpPr/>
          <p:nvPr/>
        </p:nvSpPr>
        <p:spPr>
          <a:xfrm flipV="1">
            <a:off x="144792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9"/>
          <p:cNvSpPr/>
          <p:nvPr/>
        </p:nvSpPr>
        <p:spPr>
          <a:xfrm flipV="1">
            <a:off x="160020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0"/>
          <p:cNvSpPr/>
          <p:nvPr/>
        </p:nvSpPr>
        <p:spPr>
          <a:xfrm flipV="1">
            <a:off x="175248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1"/>
          <p:cNvSpPr/>
          <p:nvPr/>
        </p:nvSpPr>
        <p:spPr>
          <a:xfrm flipV="1">
            <a:off x="190512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2"/>
          <p:cNvSpPr/>
          <p:nvPr/>
        </p:nvSpPr>
        <p:spPr>
          <a:xfrm flipV="1">
            <a:off x="205740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3"/>
          <p:cNvSpPr/>
          <p:nvPr/>
        </p:nvSpPr>
        <p:spPr>
          <a:xfrm flipV="1">
            <a:off x="220968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4"/>
          <p:cNvSpPr/>
          <p:nvPr/>
        </p:nvSpPr>
        <p:spPr>
          <a:xfrm flipV="1">
            <a:off x="236232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5"/>
          <p:cNvSpPr/>
          <p:nvPr/>
        </p:nvSpPr>
        <p:spPr>
          <a:xfrm flipV="1">
            <a:off x="251460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6"/>
          <p:cNvSpPr/>
          <p:nvPr/>
        </p:nvSpPr>
        <p:spPr>
          <a:xfrm flipV="1">
            <a:off x="266688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7"/>
          <p:cNvSpPr/>
          <p:nvPr/>
        </p:nvSpPr>
        <p:spPr>
          <a:xfrm flipV="1">
            <a:off x="281952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8"/>
          <p:cNvSpPr/>
          <p:nvPr/>
        </p:nvSpPr>
        <p:spPr>
          <a:xfrm flipV="1">
            <a:off x="297180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9"/>
          <p:cNvSpPr/>
          <p:nvPr/>
        </p:nvSpPr>
        <p:spPr>
          <a:xfrm flipV="1">
            <a:off x="312408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60"/>
          <p:cNvSpPr/>
          <p:nvPr/>
        </p:nvSpPr>
        <p:spPr>
          <a:xfrm flipV="1">
            <a:off x="327672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61"/>
          <p:cNvSpPr/>
          <p:nvPr/>
        </p:nvSpPr>
        <p:spPr>
          <a:xfrm flipV="1">
            <a:off x="342900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2"/>
          <p:cNvSpPr/>
          <p:nvPr/>
        </p:nvSpPr>
        <p:spPr>
          <a:xfrm flipV="1">
            <a:off x="358128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63"/>
          <p:cNvSpPr/>
          <p:nvPr/>
        </p:nvSpPr>
        <p:spPr>
          <a:xfrm flipV="1">
            <a:off x="373392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4"/>
          <p:cNvSpPr/>
          <p:nvPr/>
        </p:nvSpPr>
        <p:spPr>
          <a:xfrm flipV="1">
            <a:off x="3886200" y="4114440"/>
            <a:ext cx="0" cy="22860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5"/>
          <p:cNvSpPr/>
          <p:nvPr/>
        </p:nvSpPr>
        <p:spPr>
          <a:xfrm flipV="1">
            <a:off x="4038480" y="4190760"/>
            <a:ext cx="0" cy="1522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6"/>
          <p:cNvSpPr/>
          <p:nvPr/>
        </p:nvSpPr>
        <p:spPr>
          <a:xfrm flipV="1">
            <a:off x="4191120" y="4190760"/>
            <a:ext cx="0" cy="1522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7"/>
          <p:cNvSpPr/>
          <p:nvPr/>
        </p:nvSpPr>
        <p:spPr>
          <a:xfrm flipV="1">
            <a:off x="4343400" y="4190760"/>
            <a:ext cx="0" cy="1522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8"/>
          <p:cNvSpPr/>
          <p:nvPr/>
        </p:nvSpPr>
        <p:spPr>
          <a:xfrm flipV="1">
            <a:off x="4495680" y="4190760"/>
            <a:ext cx="0" cy="1522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69"/>
          <p:cNvSpPr/>
          <p:nvPr/>
        </p:nvSpPr>
        <p:spPr>
          <a:xfrm flipV="1">
            <a:off x="4648320" y="4190760"/>
            <a:ext cx="0" cy="1522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0"/>
          <p:cNvSpPr/>
          <p:nvPr/>
        </p:nvSpPr>
        <p:spPr>
          <a:xfrm flipV="1">
            <a:off x="4800600" y="4190760"/>
            <a:ext cx="0" cy="1522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71"/>
          <p:cNvSpPr/>
          <p:nvPr/>
        </p:nvSpPr>
        <p:spPr>
          <a:xfrm flipV="1">
            <a:off x="4952880" y="4190760"/>
            <a:ext cx="0" cy="1522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72"/>
          <p:cNvSpPr/>
          <p:nvPr/>
        </p:nvSpPr>
        <p:spPr>
          <a:xfrm flipV="1">
            <a:off x="5105520" y="4267080"/>
            <a:ext cx="0" cy="7632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3"/>
          <p:cNvSpPr/>
          <p:nvPr/>
        </p:nvSpPr>
        <p:spPr>
          <a:xfrm>
            <a:off x="1676520" y="38862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Lift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7B5E-E1A5-47D1-8396-50AFDBBCFDF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rville and Wilbur Wrigh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04" name="Picture 7" descr="File:First flight2.jpg"/>
          <p:cNvPicPr/>
          <p:nvPr/>
        </p:nvPicPr>
        <p:blipFill>
          <a:blip r:embed="rId1"/>
          <a:stretch/>
        </p:blipFill>
        <p:spPr>
          <a:xfrm>
            <a:off x="0" y="914400"/>
            <a:ext cx="4114800" cy="26701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2"/>
          <p:cNvSpPr/>
          <p:nvPr/>
        </p:nvSpPr>
        <p:spPr>
          <a:xfrm>
            <a:off x="1295280" y="33526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ght Brother’s First Flight [17 Dec 1903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1295280" y="91440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ght Flyer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9" descr="http://www.wrightbros.org/Information%20Images/Photos/1904%20Flyer%202%20in%20Flight.jpg"/>
          <p:cNvPicPr/>
          <p:nvPr/>
        </p:nvPicPr>
        <p:blipFill>
          <a:blip r:embed="rId2"/>
          <a:stretch/>
        </p:blipFill>
        <p:spPr>
          <a:xfrm>
            <a:off x="0" y="3708360"/>
            <a:ext cx="4114800" cy="23875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20"/>
          <p:cNvSpPr/>
          <p:nvPr/>
        </p:nvSpPr>
        <p:spPr>
          <a:xfrm>
            <a:off x="1295280" y="58672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right Flyer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4191120" y="1219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light at Kill Devil Hills in Kitty Hawk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4191120" y="169056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ght Flyer I – Canard Pusher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4191120" y="214776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ght Flyer II – Less Camber, More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4191120" y="260496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ght Flyer III – First Practical Air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6" descr="http://www.wpafb.af.mil/shared/media/photodb/photos/051005-F-5954K-010.JPG"/>
          <p:cNvPicPr/>
          <p:nvPr/>
        </p:nvPicPr>
        <p:blipFill>
          <a:blip r:embed="rId3"/>
          <a:stretch/>
        </p:blipFill>
        <p:spPr>
          <a:xfrm>
            <a:off x="4114800" y="3443400"/>
            <a:ext cx="5029200" cy="26589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27"/>
          <p:cNvSpPr/>
          <p:nvPr/>
        </p:nvSpPr>
        <p:spPr>
          <a:xfrm>
            <a:off x="6324480" y="58672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plica Wright Flyer III (190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08FA-FBA8-4F95-A4A5-38F4BA7D6FC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lenn Curtis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19" name="Picture 15" descr="http://upload.wikimedia.org/wikipedia/commons/9/9f/Curtiss_France.jpg"/>
          <p:cNvPicPr/>
          <p:nvPr/>
        </p:nvPicPr>
        <p:blipFill>
          <a:blip r:embed="rId1"/>
          <a:stretch/>
        </p:blipFill>
        <p:spPr>
          <a:xfrm>
            <a:off x="76320" y="990720"/>
            <a:ext cx="2222280" cy="2590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6"/>
          <p:cNvSpPr/>
          <p:nvPr/>
        </p:nvSpPr>
        <p:spPr>
          <a:xfrm>
            <a:off x="304920" y="9907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lenn Curtiss in 19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04920" y="33526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9" descr="http://www.birthplaceofspeed2005.com/GlennCurtis11d3f4250.jpg"/>
          <p:cNvPicPr/>
          <p:nvPr/>
        </p:nvPicPr>
        <p:blipFill>
          <a:blip r:embed="rId2"/>
          <a:stretch/>
        </p:blipFill>
        <p:spPr>
          <a:xfrm>
            <a:off x="76320" y="3657600"/>
            <a:ext cx="3962160" cy="23241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20"/>
          <p:cNvSpPr/>
          <p:nvPr/>
        </p:nvSpPr>
        <p:spPr>
          <a:xfrm>
            <a:off x="2057400" y="5715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urtiss’s Motorcycle &amp;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4" descr="Glenn Curtiss' June Bug"/>
          <p:cNvPicPr/>
          <p:nvPr/>
        </p:nvPicPr>
        <p:blipFill>
          <a:blip r:embed="rId3"/>
          <a:stretch/>
        </p:blipFill>
        <p:spPr>
          <a:xfrm>
            <a:off x="4114800" y="365760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25"/>
          <p:cNvSpPr/>
          <p:nvPr/>
        </p:nvSpPr>
        <p:spPr>
          <a:xfrm>
            <a:off x="6477120" y="36576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tiss’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June Bu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4 July 19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7" descr="http://www.snl.no/system/images/.bilde/Golden_Flyer_1_1.jpg"/>
          <p:cNvPicPr/>
          <p:nvPr/>
        </p:nvPicPr>
        <p:blipFill>
          <a:blip r:embed="rId4"/>
          <a:stretch/>
        </p:blipFill>
        <p:spPr>
          <a:xfrm>
            <a:off x="2362320" y="990720"/>
            <a:ext cx="2297160" cy="25905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28"/>
          <p:cNvSpPr/>
          <p:nvPr/>
        </p:nvSpPr>
        <p:spPr>
          <a:xfrm>
            <a:off x="2666880" y="9907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tiss’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olden Fl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4724280" y="1157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riginal member of Bell’s Aerial Experiment Association (AEA) (19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4724280" y="1843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w Langley’s Aerodrome and his own design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une B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olden Fl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2"/>
          <p:cNvSpPr/>
          <p:nvPr/>
        </p:nvSpPr>
        <p:spPr>
          <a:xfrm>
            <a:off x="4724280" y="2529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rtiss Aeroplane and Motor 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4724280" y="29862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issued the first pilot’s lic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0D90-EE22-4015-B6DE-1340880C5B85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aster and Higher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36" name="Picture 17" descr="http://cdn-www.airliners.net/aviation-photos/photos/3/3/7/1372733.jpg"/>
          <p:cNvPicPr/>
          <p:nvPr/>
        </p:nvPicPr>
        <p:blipFill>
          <a:blip r:embed="rId1"/>
          <a:stretch/>
        </p:blipFill>
        <p:spPr>
          <a:xfrm>
            <a:off x="76320" y="990720"/>
            <a:ext cx="3047760" cy="1487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1" descr="File:F-104 right side view.jpg"/>
          <p:cNvPicPr/>
          <p:nvPr/>
        </p:nvPicPr>
        <p:blipFill>
          <a:blip r:embed="rId2"/>
          <a:stretch/>
        </p:blipFill>
        <p:spPr>
          <a:xfrm>
            <a:off x="76320" y="2514600"/>
            <a:ext cx="3047760" cy="7952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2"/>
          <p:cNvSpPr/>
          <p:nvPr/>
        </p:nvSpPr>
        <p:spPr>
          <a:xfrm>
            <a:off x="76320" y="9907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rth American P-51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1066680" y="25146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kheed F-1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5" descr="SR7101"/>
          <p:cNvPicPr/>
          <p:nvPr/>
        </p:nvPicPr>
        <p:blipFill>
          <a:blip r:embed="rId3"/>
          <a:stretch/>
        </p:blipFill>
        <p:spPr>
          <a:xfrm>
            <a:off x="76320" y="3352680"/>
            <a:ext cx="3047760" cy="12700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6"/>
          <p:cNvSpPr/>
          <p:nvPr/>
        </p:nvSpPr>
        <p:spPr>
          <a:xfrm>
            <a:off x="1066680" y="33526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kheed SR-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7" descr="air-f-22-raptor"/>
          <p:cNvPicPr/>
          <p:nvPr/>
        </p:nvPicPr>
        <p:blipFill>
          <a:blip r:embed="rId4"/>
          <a:stretch/>
        </p:blipFill>
        <p:spPr>
          <a:xfrm>
            <a:off x="76320" y="4724280"/>
            <a:ext cx="3047760" cy="11224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28"/>
          <p:cNvSpPr/>
          <p:nvPr/>
        </p:nvSpPr>
        <p:spPr>
          <a:xfrm>
            <a:off x="152280" y="55627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kheed Martin F-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31" descr="DSC_0269"/>
          <p:cNvPicPr/>
          <p:nvPr/>
        </p:nvPicPr>
        <p:blipFill>
          <a:blip r:embed="rId5"/>
          <a:srcRect l="6251" t="31587" r="10961" b="16887"/>
          <a:stretch/>
        </p:blipFill>
        <p:spPr>
          <a:xfrm>
            <a:off x="3505320" y="990720"/>
            <a:ext cx="518148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E5D5-FC05-43D3-9FED-76CFFB9B69ED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yllabus Info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Text Box 94"/>
          <p:cNvSpPr/>
          <p:nvPr/>
        </p:nvSpPr>
        <p:spPr>
          <a:xfrm>
            <a:off x="60948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sor of Recor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r. Ron Barre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24 Learned Hall (Off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5"/>
          <p:cNvSpPr/>
          <p:nvPr/>
        </p:nvSpPr>
        <p:spPr>
          <a:xfrm>
            <a:off x="609480" y="1905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chard Bramlet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65F Learned Hall (Off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82 Learned Hall (KUA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6"/>
          <p:cNvSpPr/>
          <p:nvPr/>
        </p:nvSpPr>
        <p:spPr>
          <a:xfrm>
            <a:off x="609480" y="2743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rs / Lab Assistant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 Lee, Mike Brennison, Lauren Ke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7"/>
          <p:cNvSpPr/>
          <p:nvPr/>
        </p:nvSpPr>
        <p:spPr>
          <a:xfrm>
            <a:off x="609480" y="3414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 can generally be found in 1182 Learned Hall (the Adap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rostructures Lab) or our respective offices. Otherwise, e-mail is b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8"/>
          <p:cNvSpPr/>
          <p:nvPr/>
        </p:nvSpPr>
        <p:spPr>
          <a:xfrm>
            <a:off x="609480" y="4343400"/>
            <a:ext cx="8305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s (2112 LH) on 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s (1180A LH) on Wednesday &amp;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74FA-1897-4E80-9F5E-110C089EFE55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urse Overview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048120" y="1295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-245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81080" y="2514600"/>
            <a:ext cx="1981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029200" y="2514600"/>
            <a:ext cx="1981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44956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2971800" y="2209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297180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601992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1981080" y="31240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029200" y="312408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5029200" y="403848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1981080" y="40384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29718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97180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>
            <a:off x="60199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601992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3581280" y="51814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2971800" y="4952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297180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6019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2"/>
          <p:cNvSpPr/>
          <p:nvPr/>
        </p:nvSpPr>
        <p:spPr>
          <a:xfrm>
            <a:off x="4572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1243-2643-4521-B25C-F2F0C6B40DB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yllabus Info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2819520" cy="3505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2608560" cy="3505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3" name="Text Box 9"/>
          <p:cNvSpPr/>
          <p:nvPr/>
        </p:nvSpPr>
        <p:spPr>
          <a:xfrm>
            <a:off x="533520" y="9907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boo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33520" y="49212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roduction to Fl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.                    John D. And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375200" y="556200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BN # 00735293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4572000" y="9907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 M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495680" y="48769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Online and Print A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4191120" y="51958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[http://www.courseware.ku.edu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679D-CE78-4C76-AE50-5CCCA179B815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rading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335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1066680" y="2209680"/>
            <a:ext cx="14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Ex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535680" y="3513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066680" y="3994200"/>
            <a:ext cx="14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533520" y="1219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971800" y="1219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609480" y="5334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304920" y="167652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380880" y="342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2"/>
          <p:cNvSpPr/>
          <p:nvPr/>
        </p:nvSpPr>
        <p:spPr>
          <a:xfrm>
            <a:off x="457200" y="52578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320040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320040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31240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3124080" y="2209680"/>
            <a:ext cx="14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3200400" y="3962520"/>
            <a:ext cx="14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&amp;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5791320" y="1600200"/>
            <a:ext cx="2743200" cy="131364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10% bonus based on project fly-day performance ran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5181480" y="3581280"/>
            <a:ext cx="3733920" cy="193608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Misconduct of any kind wil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be toler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e failed, suspended, and/or expe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not worth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21D2-7B9C-4C91-A5CC-E41758B94C00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erospace Engineering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4" name="Picture 4" descr="Captive Carry 2"/>
          <p:cNvPicPr/>
          <p:nvPr/>
        </p:nvPicPr>
        <p:blipFill>
          <a:blip r:embed="rId1"/>
          <a:stretch/>
        </p:blipFill>
        <p:spPr>
          <a:xfrm>
            <a:off x="228600" y="914400"/>
            <a:ext cx="3124080" cy="2128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BOOST From SSO boom flight dedicated in memory of Dave Thompson (Flight 11P)"/>
          <p:cNvPicPr/>
          <p:nvPr/>
        </p:nvPicPr>
        <p:blipFill>
          <a:blip r:embed="rId2"/>
          <a:stretch/>
        </p:blipFill>
        <p:spPr>
          <a:xfrm>
            <a:off x="228600" y="3048120"/>
            <a:ext cx="3124080" cy="21207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0" y="5181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space Engineers design, build, test, and maintain aircraft, spacecraft, and everything in betw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04920" y="2803680"/>
            <a:ext cx="30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d Composites White Knight &amp; Spaceship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80880" y="495288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d Composites Spaceship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http://chamorrobible.org/images/photos/gpw-20040817k-NASA-KSC-00PP-1416-liftoff-Space-Shuttle-Atlantis-STS-106-20000908-large.jpg"/>
          <p:cNvPicPr/>
          <p:nvPr/>
        </p:nvPicPr>
        <p:blipFill>
          <a:blip r:embed="rId3"/>
          <a:stretch/>
        </p:blipFill>
        <p:spPr>
          <a:xfrm>
            <a:off x="3505320" y="914400"/>
            <a:ext cx="5410080" cy="426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2"/>
          <p:cNvSpPr/>
          <p:nvPr/>
        </p:nvSpPr>
        <p:spPr>
          <a:xfrm>
            <a:off x="3505320" y="4952880"/>
            <a:ext cx="30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SA Space Shuttle – Atlantis (OV-10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6248520" y="89856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andtl-Glauert Cloud Phenomen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7A02-9F34-498D-9B20-677EB1E45AE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erospace Engineering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6" name="Picture 4" descr="Boeing 777 Freighter in flight.(Neg#: K6317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2096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37" name="Oval 5"/>
          <p:cNvSpPr/>
          <p:nvPr/>
        </p:nvSpPr>
        <p:spPr>
          <a:xfrm>
            <a:off x="3581280" y="3657600"/>
            <a:ext cx="304920" cy="304920"/>
          </a:xfrm>
          <a:prstGeom prst="ellipse">
            <a:avLst/>
          </a:prstGeom>
          <a:solidFill>
            <a:srgbClr val="008000">
              <a:alpha val="30000"/>
            </a:srgbClr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1905120" y="2666880"/>
            <a:ext cx="1752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33520" y="2362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onic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lectri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 rot="306000">
            <a:off x="3881520" y="3579480"/>
            <a:ext cx="3581280" cy="609480"/>
          </a:xfrm>
          <a:prstGeom prst="rect">
            <a:avLst/>
          </a:prstGeom>
          <a:solidFill>
            <a:srgbClr val="ff6600">
              <a:alpha val="4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 rot="20469000">
            <a:off x="4659480" y="2587680"/>
            <a:ext cx="457200" cy="1066680"/>
          </a:xfrm>
          <a:prstGeom prst="rect">
            <a:avLst/>
          </a:prstGeom>
          <a:solidFill>
            <a:srgbClr val="3366ff">
              <a:alpha val="3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 rot="17313600">
            <a:off x="6804720" y="2780280"/>
            <a:ext cx="233280" cy="3505320"/>
          </a:xfrm>
          <a:prstGeom prst="rect">
            <a:avLst/>
          </a:prstGeom>
          <a:solidFill>
            <a:srgbClr val="3366ff">
              <a:alpha val="3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410080" y="4267080"/>
            <a:ext cx="685800" cy="381240"/>
          </a:xfrm>
          <a:prstGeom prst="rect">
            <a:avLst/>
          </a:prstGeom>
          <a:solidFill>
            <a:srgbClr val="ff0000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705720" y="2971800"/>
            <a:ext cx="1523880" cy="1371600"/>
          </a:xfrm>
          <a:prstGeom prst="rect">
            <a:avLst/>
          </a:prstGeom>
          <a:solidFill>
            <a:srgbClr val="0000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6629400" y="198108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 flipV="1">
            <a:off x="2133720" y="4571640"/>
            <a:ext cx="3352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2057400" y="388620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4114800" y="205740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457200" y="3657600"/>
            <a:ext cx="1752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echanical &amp; Civ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304920" y="4952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ul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echanical, Chemi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2743200" y="1676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rodynamic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echani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6095880" y="1676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ty &amp; Control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lectri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68580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rious Discip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3352680" y="5181480"/>
            <a:ext cx="5105520" cy="381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optimize all together for minimum weig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5715000" y="579132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oeing 777 Freigh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9F8F-B068-40AD-B2E3-AA70513AB0D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arly Development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0" name="Picture 21" descr="http://4.bp.blogspot.com/_t676rZsCsK4/RgwnTPXdhfI/AAAAAAAAAOQ/ZMTOgesFg88/s320/Daedalus-and-icarus.jpg"/>
          <p:cNvPicPr/>
          <p:nvPr/>
        </p:nvPicPr>
        <p:blipFill>
          <a:blip r:embed="rId1"/>
          <a:stretch/>
        </p:blipFill>
        <p:spPr>
          <a:xfrm>
            <a:off x="76320" y="990720"/>
            <a:ext cx="2438280" cy="21034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2"/>
          <p:cNvSpPr/>
          <p:nvPr/>
        </p:nvSpPr>
        <p:spPr>
          <a:xfrm>
            <a:off x="0" y="9907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eeks – Icarus &amp; Daeda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4" descr="http://z.about.com/d/inventors/1/7/v/x/FlyingMachine.jpg"/>
          <p:cNvPicPr/>
          <p:nvPr/>
        </p:nvPicPr>
        <p:blipFill>
          <a:blip r:embed="rId2"/>
          <a:stretch/>
        </p:blipFill>
        <p:spPr>
          <a:xfrm>
            <a:off x="2819520" y="990720"/>
            <a:ext cx="2438280" cy="2127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5"/>
          <p:cNvSpPr/>
          <p:nvPr/>
        </p:nvSpPr>
        <p:spPr>
          <a:xfrm>
            <a:off x="2819520" y="99072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 Vinci’s Ornithop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2362320" y="20574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8" descr="http://www.leonardo-da-vinci-biography.com/images/leonardo-da-vinci-flying-machines.2.jpg"/>
          <p:cNvPicPr/>
          <p:nvPr/>
        </p:nvPicPr>
        <p:blipFill>
          <a:blip r:embed="rId3"/>
          <a:stretch/>
        </p:blipFill>
        <p:spPr>
          <a:xfrm>
            <a:off x="5791320" y="990720"/>
            <a:ext cx="2209680" cy="1885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9"/>
          <p:cNvSpPr/>
          <p:nvPr/>
        </p:nvSpPr>
        <p:spPr>
          <a:xfrm>
            <a:off x="5562720" y="99072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 Vinci’s Helicop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5334120" y="175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28195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3" descr="http://upload.wikimedia.org/wikipedia/commons/7/72/Old_Man_with_Water_Studies.jpg"/>
          <p:cNvPicPr/>
          <p:nvPr/>
        </p:nvPicPr>
        <p:blipFill>
          <a:blip r:embed="rId4"/>
          <a:stretch/>
        </p:blipFill>
        <p:spPr>
          <a:xfrm>
            <a:off x="6802560" y="2971800"/>
            <a:ext cx="2208240" cy="30481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4"/>
          <p:cNvSpPr/>
          <p:nvPr/>
        </p:nvSpPr>
        <p:spPr>
          <a:xfrm>
            <a:off x="7467480" y="297180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 Vinci’s Fluid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70102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9" descr="http://spacecollective.org/userdata/4f3WLUsD/1196438836/Montgolfier_Balloon.jpg"/>
          <p:cNvPicPr/>
          <p:nvPr/>
        </p:nvPicPr>
        <p:blipFill>
          <a:blip r:embed="rId5"/>
          <a:stretch/>
        </p:blipFill>
        <p:spPr>
          <a:xfrm>
            <a:off x="2286000" y="3276720"/>
            <a:ext cx="2646360" cy="2666880"/>
          </a:xfrm>
          <a:prstGeom prst="rect">
            <a:avLst/>
          </a:prstGeom>
          <a:ln w="0">
            <a:noFill/>
          </a:ln>
        </p:spPr>
      </p:pic>
      <p:sp>
        <p:nvSpPr>
          <p:cNvPr id="173" name="Line 40"/>
          <p:cNvSpPr/>
          <p:nvPr/>
        </p:nvSpPr>
        <p:spPr>
          <a:xfrm flipH="1">
            <a:off x="4800240" y="4572000"/>
            <a:ext cx="2133720" cy="0"/>
          </a:xfrm>
          <a:prstGeom prst="line">
            <a:avLst/>
          </a:prstGeom>
          <a:ln w="63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1"/>
          <p:cNvSpPr/>
          <p:nvPr/>
        </p:nvSpPr>
        <p:spPr>
          <a:xfrm>
            <a:off x="2286000" y="57150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ontgolfier Brothers’ Ballo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2"/>
          <p:cNvSpPr/>
          <p:nvPr/>
        </p:nvSpPr>
        <p:spPr>
          <a:xfrm>
            <a:off x="4191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3"/>
          <p:cNvSpPr/>
          <p:nvPr/>
        </p:nvSpPr>
        <p:spPr>
          <a:xfrm>
            <a:off x="5181480" y="4114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4"/>
          <p:cNvSpPr/>
          <p:nvPr/>
        </p:nvSpPr>
        <p:spPr>
          <a:xfrm flipH="1">
            <a:off x="-360" y="4572000"/>
            <a:ext cx="24382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6"/>
          <p:cNvSpPr/>
          <p:nvPr/>
        </p:nvSpPr>
        <p:spPr>
          <a:xfrm>
            <a:off x="17524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Veri Yer Tutucusu 3"/>
          <p:cNvSpPr/>
          <p:nvPr/>
        </p:nvSpPr>
        <p:spPr>
          <a:xfrm>
            <a:off x="457200" y="6245280"/>
            <a:ext cx="12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E-245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lt Bilgi Yer Tutucusu 4"/>
          <p:cNvSpPr/>
          <p:nvPr/>
        </p:nvSpPr>
        <p:spPr>
          <a:xfrm>
            <a:off x="1828800" y="624528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ecture #1: Course 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ayt Numarası Yer Tutucusu 5"/>
          <p:cNvSpPr/>
          <p:nvPr/>
        </p:nvSpPr>
        <p:spPr>
          <a:xfrm>
            <a:off x="7391520" y="624852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B537-7AD6-4C39-A867-5352979D852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http://www.ctie.monash.edu.au/hargrave/images/cayley_disk_500.jpg"/>
          <p:cNvPicPr/>
          <p:nvPr/>
        </p:nvPicPr>
        <p:blipFill>
          <a:blip r:embed="rId1"/>
          <a:stretch/>
        </p:blipFill>
        <p:spPr>
          <a:xfrm>
            <a:off x="152280" y="3505320"/>
            <a:ext cx="2400480" cy="23810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orge Cayley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4" name="Picture 4" descr="http://history.sandiego.edu/gen/st/~jgaffney/aviation/images/1800s/cayley.gif"/>
          <p:cNvPicPr/>
          <p:nvPr/>
        </p:nvPicPr>
        <p:blipFill>
          <a:blip r:embed="rId2"/>
          <a:stretch/>
        </p:blipFill>
        <p:spPr>
          <a:xfrm>
            <a:off x="152280" y="990720"/>
            <a:ext cx="1962360" cy="2523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457200" y="9907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r George Cay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334120" y="99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the Modern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File:Cayley Glider Replica Flown By Derek Piggott 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990720"/>
            <a:ext cx="3124440" cy="1936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2971800" y="9907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5 Replica of Cayley’s 1852 Gl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6"/>
          <p:cNvSpPr/>
          <p:nvPr/>
        </p:nvSpPr>
        <p:spPr>
          <a:xfrm rot="21136200">
            <a:off x="2522520" y="4674960"/>
            <a:ext cx="2997360" cy="825480"/>
          </a:xfrm>
          <a:custGeom>
            <a:avLst/>
            <a:gdLst/>
            <a:ahLst/>
            <a:rect l="l" t="t" r="r" b="b"/>
            <a:pathLst>
              <a:path w="1888" h="520">
                <a:moveTo>
                  <a:pt x="80" y="512"/>
                </a:moveTo>
                <a:cubicBezTo>
                  <a:pt x="0" y="504"/>
                  <a:pt x="576" y="304"/>
                  <a:pt x="800" y="224"/>
                </a:cubicBezTo>
                <a:cubicBezTo>
                  <a:pt x="1024" y="144"/>
                  <a:pt x="1264" y="64"/>
                  <a:pt x="1424" y="32"/>
                </a:cubicBezTo>
                <a:cubicBezTo>
                  <a:pt x="1584" y="0"/>
                  <a:pt x="1696" y="16"/>
                  <a:pt x="1760" y="32"/>
                </a:cubicBezTo>
                <a:cubicBezTo>
                  <a:pt x="1824" y="48"/>
                  <a:pt x="1888" y="88"/>
                  <a:pt x="1808" y="128"/>
                </a:cubicBezTo>
                <a:cubicBezTo>
                  <a:pt x="1728" y="168"/>
                  <a:pt x="1568" y="208"/>
                  <a:pt x="1280" y="272"/>
                </a:cubicBezTo>
                <a:cubicBezTo>
                  <a:pt x="992" y="336"/>
                  <a:pt x="160" y="520"/>
                  <a:pt x="80" y="512"/>
                </a:cubicBezTo>
                <a:close/>
              </a:path>
            </a:pathLst>
          </a:custGeom>
          <a:blipFill rotWithShape="0">
            <a:blip r:embed="rId5">
              <a:alphaModFix amt="6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 flipV="1">
            <a:off x="2580840" y="4514760"/>
            <a:ext cx="2991600" cy="118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 flipH="1">
            <a:off x="5265360" y="497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0"/>
          <p:cNvSpPr/>
          <p:nvPr/>
        </p:nvSpPr>
        <p:spPr>
          <a:xfrm flipH="1">
            <a:off x="5265360" y="513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1"/>
          <p:cNvSpPr/>
          <p:nvPr/>
        </p:nvSpPr>
        <p:spPr>
          <a:xfrm flipH="1">
            <a:off x="5265360" y="528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2"/>
          <p:cNvSpPr/>
          <p:nvPr/>
        </p:nvSpPr>
        <p:spPr>
          <a:xfrm flipH="1">
            <a:off x="5265360" y="482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 flipH="1">
            <a:off x="3970440" y="48276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 flipH="1" flipV="1">
            <a:off x="4046400" y="3684240"/>
            <a:ext cx="609840" cy="10666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 flipH="1" flipV="1">
            <a:off x="4684680" y="3605400"/>
            <a:ext cx="12600" cy="1228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4732200" y="36082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3513240" y="43704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3132000" y="330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Normal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5638680" y="1371600"/>
            <a:ext cx="33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Man-Powered Ornitho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Lift &amp; Propul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228600" y="585144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yley’s Disk Diagram (179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1" descr="http://www.wright-brothers.org/Adventure%20Images/1901%20Wind%20Tunnel%20Replica/Whirling%20arm.jpg"/>
          <p:cNvPicPr/>
          <p:nvPr/>
        </p:nvPicPr>
        <p:blipFill>
          <a:blip r:embed="rId6"/>
          <a:stretch/>
        </p:blipFill>
        <p:spPr>
          <a:xfrm>
            <a:off x="6172200" y="3581280"/>
            <a:ext cx="2819520" cy="20862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2"/>
          <p:cNvSpPr/>
          <p:nvPr/>
        </p:nvSpPr>
        <p:spPr>
          <a:xfrm>
            <a:off x="5410080" y="23623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Early Wing Test 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172200" y="571500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yley’s Whirling Arm Apparatus (180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838080" y="32767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5410080" y="2971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t &amp; Flew First Manned Gl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utlook .com</dc:creator>
  <dc:description/>
  <dc:language>en-US</dc:language>
  <cp:lastModifiedBy>MANU</cp:lastModifiedBy>
  <dcterms:modified xsi:type="dcterms:W3CDTF">2018-08-09T16:31:01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